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50F-C811-43B7-B707-0B490618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BF1-FE9F-4961-B46E-E1F3F11E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EFB-8182-475A-9EBC-63D815C5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492-71DA-4FC4-AE0D-A45B1EAC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9F7-CBF6-4089-9CC7-6F34B60B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47B-C8C6-4546-878B-DAD5568E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7B1-1A49-49F7-9509-F2B1A8D3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4CA-D19A-4E5D-A140-CDC78295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0D9-B4E4-46B4-8512-A30BBC3B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7F5-FA7E-42B6-A332-428E1039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80A-298F-4900-890A-93CF9CE6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0EF-8F75-4767-A7EF-9A948920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D364-EF42-4AB3-B218-7D3EE7D07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2362320" y="457200"/>
          <a:ext cx="4495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95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371600" y="668520"/>
            <a:ext cx="65530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osqu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the sacred space where the people of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usli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faith tradition gather to pray togeth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t is important to note that just like all the other faith traditions, people can pray anywhere.  The Mosque is their sacred space where they pray to God, whom they call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Alla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s in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Orthodox Jewis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tradition, the men and women pray separately.  In a rare number of Mosques the men and women pray in the same space.  The women will pray in a partially separated room or, as in this Mosque, they are upstairs on a balcony with a decorated screen through which they can peek, but behind which they cannot be se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oth the men and the women pray for about five minutes, five times per day.  During prayer, they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prostrat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themselves – kneeling and putting their face to the ground, then they stand, bow, and kneel.  Each movement is to praise Allah, and to give themselves totally to  Alla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se words are written in their holy book,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Kor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(Qur’a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five pillar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of the Muslim faith tradition st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hahad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to repeat the declaration of fa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alat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o pray five times each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Zakat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o give to the p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awm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o fast during the month of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Ramad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Hajj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o make a pilgrimage to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ec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(Makka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57200" y="-19080"/>
            <a:ext cx="86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Inside the Mos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qibla, mihrab, minbar, carpet &amp;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101_0079-1"/>
          <p:cNvPicPr/>
          <p:nvPr/>
        </p:nvPicPr>
        <p:blipFill>
          <a:blip r:embed="rId1"/>
          <a:stretch/>
        </p:blipFill>
        <p:spPr>
          <a:xfrm>
            <a:off x="2286000" y="685800"/>
            <a:ext cx="467676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143000" y="4353840"/>
            <a:ext cx="7543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uslims believe in one God,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Alla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  They pray to Allah five times per day.  It is not necessary to go to a Mosque to pray.  It is only necessary to face in the right direction – toward the holy city of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ec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e Mosque,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qibl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the special wall that everyone faces because it is in the direction of Mec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ihrab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an alcove in or on the qibla wall to indicate that this is the direction towards Mec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inba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is the small stage or seat where the leader,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imam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or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ulla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, sits to give the sermon on Friday pray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is Mosque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arpet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has a design that aids in situating one’s direction toward Mec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lock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lists the five specific times for prayer for that 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117880" y="114480"/>
            <a:ext cx="490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101_0181"/>
          <p:cNvPicPr/>
          <p:nvPr/>
        </p:nvPicPr>
        <p:blipFill>
          <a:blip r:embed="rId1"/>
          <a:stretch/>
        </p:blipFill>
        <p:spPr>
          <a:xfrm>
            <a:off x="2057400" y="990720"/>
            <a:ext cx="5486400" cy="3409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33520" y="4721760"/>
            <a:ext cx="8381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lock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from a different Mosque.  It also indicates the hours of prayer for that da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omeon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calls out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that it is time to pray, and while they are doing so they put their hands behind their ears to call others to 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some places the calls take place from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Minaret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, which look like small rooms on the top of a tall colum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919320" y="-31680"/>
            <a:ext cx="13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Balcony Rai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101_0082-1"/>
          <p:cNvPicPr/>
          <p:nvPr/>
        </p:nvPicPr>
        <p:blipFill>
          <a:blip r:embed="rId1"/>
          <a:stretch/>
        </p:blipFill>
        <p:spPr>
          <a:xfrm>
            <a:off x="1981080" y="304920"/>
            <a:ext cx="54864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28600" y="4384800"/>
            <a:ext cx="8686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en and women pray in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eparate place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  Often the women are in another room or behind a wall.  In this Mosque, the women are upstairs on a balcony behind this beautifully and ornately carved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railing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Muslims do not put pictures of any kind in the Mosques, but they may us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intricate design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decorate their sacred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Note the decoration on the rug indicating th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dire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face in pr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ll Muslims do </a:t>
            </a:r>
            <a:r>
              <a:rPr b="1" i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wudu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the washing up before they go to pray.  If possible they wash their hands and feet.  If not possible, they do it symbolicall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veryone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takes off their shoe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before entering the Mosque.  Hindus and Sikhs do the same.  It is reverence for their holy spa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443040" y="-31680"/>
            <a:ext cx="225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Studying the Koran (Qur’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67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101_0084"/>
          <p:cNvPicPr/>
          <p:nvPr/>
        </p:nvPicPr>
        <p:blipFill>
          <a:blip r:embed="rId1"/>
          <a:stretch/>
        </p:blipFill>
        <p:spPr>
          <a:xfrm>
            <a:off x="1828800" y="609480"/>
            <a:ext cx="4886280" cy="3467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09480" y="4264920"/>
            <a:ext cx="7925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picture was taken from the women’s balcony, looking down into the men’s section of the Mosque.  In it you can see a group of men studying the Muslim Holy Scriptures, the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Koran (Qur’an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Muslims believe that the angel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Gabriel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came to their founder,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Mohamme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while he was sitting in a cave fasting, and gave him the specific words of the Koran.  Later Mohammed dictated these words to scribes who wrote them down in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Arabic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Muslims fast from dawn to dusk for 30 days during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Ramada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 The feast at the end of Ramadan is called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Ei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Five Pillar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of Islam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Fai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“There is no God but Allah, and Mohammad is the Messenger of Allah”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Prayer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Pray five times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Almsgiving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 Help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Fasting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During Ramadan (and do not eat pork or drink liqu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Pilgrimag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 If able, go to Mecca once during one’s life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desilva</cp:lastModifiedBy>
  <dcterms:modified xsi:type="dcterms:W3CDTF">2011-05-16T19:20:41Z</dcterms:modified>
  <cp:revision>6</cp:revision>
  <dc:subject/>
  <dc:title>Slide 1</dc:title>
</cp:coreProperties>
</file>