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363-8DFD-44F8-AEEB-B90CAABB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0C6-B71A-476D-8887-B4F56BAF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7CC-14FD-4180-B765-775B13A8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BA0-8F4B-4640-81DB-3E2BAB9A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C9C-6A6D-4A62-A37E-FDA8286E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D4C-A31B-43E2-A3C8-94DFE209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8A3-7D44-42A3-8778-1993CBCD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E26-9682-4BB9-AA31-0AB7947F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268-BC19-46D7-B761-1B8D401E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739-76DF-4FA8-B305-0F04D184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409-DB86-4815-A02B-4C7D6E7A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7D1-BFDC-4214-83D2-BC342D30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C3F4-1036-4D32-B674-AD3F9066E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2362320" y="457200"/>
          <a:ext cx="4495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495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371600" y="668520"/>
            <a:ext cx="65530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osqu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the sacred space where the people of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uslim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faith tradition gather to pray togeth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t is important to note that just like all the other faith traditions, people can pray anywhere.  The Mosque is their sacred space where they pray to God, whom they call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Alla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s in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Orthodox Jewis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tradition, the men and women pray separately.  In a rare number of Mosques the men and women pray in the same space.  The women will pray in a partially separated room or, as in this Mosque, they are upstairs on a balcony with a decorated screen through which they can peek, but behind which they cannot be se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oth the men and the women pray for about five minutes, five times per day.  During prayer, they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prostrat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themselves – kneeling and putting their face to the ground, then they stand, bow, and kneel.  Each movement is to praise Allah, and to give themselves totally to  Alla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se words are written in their holy book,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Kor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(Qur’a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five pillar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of the Muslim faith tradition st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Shahad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to repeat the declaration of fa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Salat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to pray five times each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Zakat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to give to the p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Sawm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to fast during the month of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Ramad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Hajj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to make a pilgrimage to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ec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(Makka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57200" y="-1908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Inside the Mos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qibla, mihrab, minbar, carpet &amp;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101_0079-1"/>
          <p:cNvPicPr/>
          <p:nvPr/>
        </p:nvPicPr>
        <p:blipFill>
          <a:blip r:embed="rId1"/>
          <a:stretch/>
        </p:blipFill>
        <p:spPr>
          <a:xfrm>
            <a:off x="2286000" y="685800"/>
            <a:ext cx="467676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1143000" y="4353840"/>
            <a:ext cx="7543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uslims believe in one God,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Alla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  They pray to Allah five times per day.  It is not necessary to go to a Mosque to pray.  It is only necessary to face in the right direction – toward the holy city of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ec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the Mosque,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qibl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the special wall that everyone faces because it is in the direction of Mec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ihrab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n alcove in or on the qibla wall to indicate that this is the direction towards Mec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inba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the small stage or seat where the leader,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imam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or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ulla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, sits to give the sermon on Friday pray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this Mosque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carpet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has a design that aids in situating one’s direction toward Mec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clock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lists the five specific times for prayer for that d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117880" y="114480"/>
            <a:ext cx="490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101_0181"/>
          <p:cNvPicPr/>
          <p:nvPr/>
        </p:nvPicPr>
        <p:blipFill>
          <a:blip r:embed="rId1"/>
          <a:stretch/>
        </p:blipFill>
        <p:spPr>
          <a:xfrm>
            <a:off x="2057400" y="990720"/>
            <a:ext cx="5486400" cy="3409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33520" y="4721760"/>
            <a:ext cx="8381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clock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from a different Mosque.  It also indicates the hours of prayer for that day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omeon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calls out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that it is time to pray, and while they are doing so they put their hands behind their ears to call others to 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ome places the calls take place from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inaret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, which look like small rooms on the top of a tall colum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919320" y="-31680"/>
            <a:ext cx="130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Balcony Rai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101_0082-1"/>
          <p:cNvPicPr/>
          <p:nvPr/>
        </p:nvPicPr>
        <p:blipFill>
          <a:blip r:embed="rId1"/>
          <a:stretch/>
        </p:blipFill>
        <p:spPr>
          <a:xfrm>
            <a:off x="1981080" y="304920"/>
            <a:ext cx="54864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28600" y="4384800"/>
            <a:ext cx="8686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en and women pray in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separate place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  Often the women are in another room or behind a wall.  In this Mosque, the women are upstairs on a balcony behind this beautifully and ornately carved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railing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uslims do not put pictures of any kind in the Mosques, but they may us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intricate design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decorate their sacred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Note the decoration on the rug indicating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direc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o face in pr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ll Muslims do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wudu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the washing up before they go to pray.  If possible they wash their hands and feet.  If not possible, they do it symbolically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veryon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takes off their shoe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before entering the Mosque.  Hindus and Sikhs do the same.  It is reverence for their holy spa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443040" y="-31680"/>
            <a:ext cx="225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Studying the Koran (Qur’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101_0084"/>
          <p:cNvPicPr/>
          <p:nvPr/>
        </p:nvPicPr>
        <p:blipFill>
          <a:blip r:embed="rId1"/>
          <a:stretch/>
        </p:blipFill>
        <p:spPr>
          <a:xfrm>
            <a:off x="1828800" y="609480"/>
            <a:ext cx="4886280" cy="3467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609480" y="4264920"/>
            <a:ext cx="7925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picture was taken from the women’s balcony, looking down into the men’s section of the Mosque.  In it you can see a group of men studying the Muslim Holy Scriptures, the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Koran (Qur’an)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Muslims believe that the angel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Gabriel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 to their founder,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Mohamme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hile he was sitting in a cave fasting, and gave him the specific words of the Koran.  Later Mohammed dictated these words to scribes who wrote them down in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Arabic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Muslims fast from dawn to dusk for 30 days during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Ramada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 The feast at the end of Ramadan is called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Eid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Five Pillars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of Islam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Fait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 “There is no God but Allah, and Mohammad is the Messenger of Allah”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Prayer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 Pray five times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Almsgiving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  Help th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Fasting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 During Ramadan (and do not eat pork or drink liqu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Pilgrimag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 If able, go to Mecca once during one’s life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desilva</cp:lastModifiedBy>
  <dcterms:modified xsi:type="dcterms:W3CDTF">2011-05-16T19:20:41Z</dcterms:modified>
  <cp:revision>6</cp:revision>
  <dc:subject/>
  <dc:title>Slide 1</dc:title>
</cp:coreProperties>
</file>