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269720" y="7365600"/>
            <a:ext cx="1046484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1461960" y="8908920"/>
            <a:ext cx="100807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" descr=""/>
          <p:cNvPicPr/>
          <p:nvPr/>
        </p:nvPicPr>
        <p:blipFill>
          <a:blip r:embed="rId2"/>
          <a:stretch/>
        </p:blipFill>
        <p:spPr>
          <a:xfrm>
            <a:off x="1461960" y="8908920"/>
            <a:ext cx="100807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2"/>
          <a:stretch/>
        </p:blipFill>
        <p:spPr>
          <a:xfrm>
            <a:off x="1461960" y="8908920"/>
            <a:ext cx="100807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1461960" y="8908920"/>
            <a:ext cx="100807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5" name="Picture 3" descr=""/>
          <p:cNvPicPr/>
          <p:nvPr/>
        </p:nvPicPr>
        <p:blipFill>
          <a:blip r:embed="rId2"/>
          <a:stretch/>
        </p:blipFill>
        <p:spPr>
          <a:xfrm>
            <a:off x="1461960" y="8908920"/>
            <a:ext cx="100807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2"/>
          <a:stretch/>
        </p:blipFill>
        <p:spPr>
          <a:xfrm>
            <a:off x="1461960" y="8908920"/>
            <a:ext cx="100807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1461960" y="8908920"/>
            <a:ext cx="100807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1461960" y="8908920"/>
            <a:ext cx="100807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461960" y="8908920"/>
            <a:ext cx="10080720" cy="792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1461960" y="8908920"/>
            <a:ext cx="100807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1461960" y="8908920"/>
            <a:ext cx="100807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1461960" y="8908920"/>
            <a:ext cx="100807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1461960" y="8908920"/>
            <a:ext cx="100807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1461960" y="8908920"/>
            <a:ext cx="100807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embed/t9tFk835vjo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Reproductive System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1" descr=""/>
          <p:cNvPicPr/>
          <p:nvPr/>
        </p:nvPicPr>
        <p:blipFill>
          <a:blip r:embed="rId1"/>
          <a:srcRect l="0" t="1752" r="0" b="10211"/>
          <a:stretch/>
        </p:blipFill>
        <p:spPr>
          <a:xfrm>
            <a:off x="2732040" y="880920"/>
            <a:ext cx="7302600" cy="629928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Vulv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Line 3"/>
          <p:cNvSpPr/>
          <p:nvPr/>
        </p:nvSpPr>
        <p:spPr>
          <a:xfrm flipV="1">
            <a:off x="6514560" y="875880"/>
            <a:ext cx="2492280" cy="18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8955360" y="460800"/>
            <a:ext cx="249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ubic hai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Line 5"/>
          <p:cNvSpPr/>
          <p:nvPr/>
        </p:nvSpPr>
        <p:spPr>
          <a:xfrm flipV="1">
            <a:off x="5853960" y="2106360"/>
            <a:ext cx="2652840" cy="50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8610120" y="1680120"/>
            <a:ext cx="1740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litor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Line 7"/>
          <p:cNvSpPr/>
          <p:nvPr/>
        </p:nvSpPr>
        <p:spPr>
          <a:xfrm>
            <a:off x="5867280" y="3174840"/>
            <a:ext cx="3087720" cy="45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Rectangle 8"/>
          <p:cNvSpPr/>
          <p:nvPr/>
        </p:nvSpPr>
        <p:spPr>
          <a:xfrm>
            <a:off x="9050040" y="320400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Line 9"/>
          <p:cNvSpPr/>
          <p:nvPr/>
        </p:nvSpPr>
        <p:spPr>
          <a:xfrm>
            <a:off x="6045120" y="4356000"/>
            <a:ext cx="1994040" cy="58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8028360" y="4601160"/>
            <a:ext cx="171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gin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Line 11"/>
          <p:cNvSpPr/>
          <p:nvPr/>
        </p:nvSpPr>
        <p:spPr>
          <a:xfrm flipV="1">
            <a:off x="3146400" y="3200040"/>
            <a:ext cx="2060640" cy="39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Rectangle 12"/>
          <p:cNvSpPr/>
          <p:nvPr/>
        </p:nvSpPr>
        <p:spPr>
          <a:xfrm>
            <a:off x="219960" y="2883960"/>
            <a:ext cx="35622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Outer labi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(Labia Majora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Rectangle 13"/>
          <p:cNvSpPr/>
          <p:nvPr/>
        </p:nvSpPr>
        <p:spPr>
          <a:xfrm>
            <a:off x="2355840" y="7469280"/>
            <a:ext cx="829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Esquema da vulva.jpg by Daniel Duclos, public domain, Wikimedia Commons, accessed August 20, 2013, http://commons.wikimedia.org/wiki/File:Esquema_da_vulva.jp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1" descr=""/>
          <p:cNvPicPr/>
          <p:nvPr/>
        </p:nvPicPr>
        <p:blipFill>
          <a:blip r:embed="rId1"/>
          <a:srcRect l="0" t="1752" r="0" b="10211"/>
          <a:stretch/>
        </p:blipFill>
        <p:spPr>
          <a:xfrm>
            <a:off x="2732040" y="880920"/>
            <a:ext cx="7302600" cy="62992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Vulv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Line 3"/>
          <p:cNvSpPr/>
          <p:nvPr/>
        </p:nvSpPr>
        <p:spPr>
          <a:xfrm flipV="1">
            <a:off x="6514560" y="875880"/>
            <a:ext cx="2492280" cy="18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8955360" y="460800"/>
            <a:ext cx="249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ubic hai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Line 5"/>
          <p:cNvSpPr/>
          <p:nvPr/>
        </p:nvSpPr>
        <p:spPr>
          <a:xfrm flipV="1">
            <a:off x="5853960" y="2106360"/>
            <a:ext cx="2652840" cy="50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8610120" y="1680120"/>
            <a:ext cx="1740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litor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Line 7"/>
          <p:cNvSpPr/>
          <p:nvPr/>
        </p:nvSpPr>
        <p:spPr>
          <a:xfrm>
            <a:off x="5867280" y="3174840"/>
            <a:ext cx="3087720" cy="45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9050040" y="320400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Line 9"/>
          <p:cNvSpPr/>
          <p:nvPr/>
        </p:nvSpPr>
        <p:spPr>
          <a:xfrm>
            <a:off x="6045120" y="4356000"/>
            <a:ext cx="1994040" cy="58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8028360" y="4601160"/>
            <a:ext cx="171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gin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Line 11"/>
          <p:cNvSpPr/>
          <p:nvPr/>
        </p:nvSpPr>
        <p:spPr>
          <a:xfrm flipV="1">
            <a:off x="3146400" y="3200040"/>
            <a:ext cx="2060640" cy="39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Rectangle 12"/>
          <p:cNvSpPr/>
          <p:nvPr/>
        </p:nvSpPr>
        <p:spPr>
          <a:xfrm>
            <a:off x="219960" y="2883960"/>
            <a:ext cx="35622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Outer labi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(Labia Majora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Line 13"/>
          <p:cNvSpPr/>
          <p:nvPr/>
        </p:nvSpPr>
        <p:spPr>
          <a:xfrm flipV="1">
            <a:off x="2502000" y="3735360"/>
            <a:ext cx="3178080" cy="140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Rectangle 14"/>
          <p:cNvSpPr/>
          <p:nvPr/>
        </p:nvSpPr>
        <p:spPr>
          <a:xfrm>
            <a:off x="526680" y="5131800"/>
            <a:ext cx="36079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Inner labi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(Labia minora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Rectangle 15"/>
          <p:cNvSpPr/>
          <p:nvPr/>
        </p:nvSpPr>
        <p:spPr>
          <a:xfrm>
            <a:off x="2355840" y="7469280"/>
            <a:ext cx="829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Esquema da vulva.jpg by Daniel Duclos, public domain, Wikimedia Commons, accessed August 20, 2013, http://commons.wikimedia.org/wiki/File:Esquema_da_vulva.jp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1" descr=""/>
          <p:cNvPicPr/>
          <p:nvPr/>
        </p:nvPicPr>
        <p:blipFill>
          <a:blip r:embed="rId1"/>
          <a:srcRect l="0" t="1752" r="0" b="10211"/>
          <a:stretch/>
        </p:blipFill>
        <p:spPr>
          <a:xfrm>
            <a:off x="2732040" y="880920"/>
            <a:ext cx="7302600" cy="629928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Vulv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Line 3"/>
          <p:cNvSpPr/>
          <p:nvPr/>
        </p:nvSpPr>
        <p:spPr>
          <a:xfrm flipV="1">
            <a:off x="6514560" y="875880"/>
            <a:ext cx="2492280" cy="18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8955360" y="460800"/>
            <a:ext cx="249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ubic hai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Line 5"/>
          <p:cNvSpPr/>
          <p:nvPr/>
        </p:nvSpPr>
        <p:spPr>
          <a:xfrm flipV="1">
            <a:off x="5853960" y="2106360"/>
            <a:ext cx="2652840" cy="50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8610120" y="1680120"/>
            <a:ext cx="1740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litor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Line 7"/>
          <p:cNvSpPr/>
          <p:nvPr/>
        </p:nvSpPr>
        <p:spPr>
          <a:xfrm>
            <a:off x="5867280" y="3174840"/>
            <a:ext cx="3087720" cy="45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Rectangle 8"/>
          <p:cNvSpPr/>
          <p:nvPr/>
        </p:nvSpPr>
        <p:spPr>
          <a:xfrm>
            <a:off x="9050040" y="320400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Line 9"/>
          <p:cNvSpPr/>
          <p:nvPr/>
        </p:nvSpPr>
        <p:spPr>
          <a:xfrm>
            <a:off x="6045120" y="4356000"/>
            <a:ext cx="1994040" cy="58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Rectangle 10"/>
          <p:cNvSpPr/>
          <p:nvPr/>
        </p:nvSpPr>
        <p:spPr>
          <a:xfrm>
            <a:off x="8028360" y="4601160"/>
            <a:ext cx="171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gin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Line 11"/>
          <p:cNvSpPr/>
          <p:nvPr/>
        </p:nvSpPr>
        <p:spPr>
          <a:xfrm flipV="1">
            <a:off x="3146400" y="3200040"/>
            <a:ext cx="2060640" cy="39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Rectangle 12"/>
          <p:cNvSpPr/>
          <p:nvPr/>
        </p:nvSpPr>
        <p:spPr>
          <a:xfrm>
            <a:off x="219960" y="2883960"/>
            <a:ext cx="35622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Outer labi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(Labia Majora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Line 13"/>
          <p:cNvSpPr/>
          <p:nvPr/>
        </p:nvSpPr>
        <p:spPr>
          <a:xfrm flipV="1">
            <a:off x="2502000" y="3735360"/>
            <a:ext cx="3178080" cy="140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Rectangle 14"/>
          <p:cNvSpPr/>
          <p:nvPr/>
        </p:nvSpPr>
        <p:spPr>
          <a:xfrm>
            <a:off x="526680" y="5131800"/>
            <a:ext cx="36079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Inner labi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(Labia minora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Line 15"/>
          <p:cNvSpPr/>
          <p:nvPr/>
        </p:nvSpPr>
        <p:spPr>
          <a:xfrm>
            <a:off x="3146400" y="1854360"/>
            <a:ext cx="2631960" cy="52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Rectangle 16"/>
          <p:cNvSpPr/>
          <p:nvPr/>
        </p:nvSpPr>
        <p:spPr>
          <a:xfrm>
            <a:off x="1422360" y="1149480"/>
            <a:ext cx="26542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litoral hoo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Rectangle 17"/>
          <p:cNvSpPr/>
          <p:nvPr/>
        </p:nvSpPr>
        <p:spPr>
          <a:xfrm>
            <a:off x="2355840" y="7469280"/>
            <a:ext cx="829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Esquema da vulva.jpg by Daniel Duclos, public domain, Wikimedia Commons, accessed August 20, 2013, http://commons.wikimedia.org/wiki/File:Esquema_da_vulva.jp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1" descr=""/>
          <p:cNvPicPr/>
          <p:nvPr/>
        </p:nvPicPr>
        <p:blipFill>
          <a:blip r:embed="rId1"/>
          <a:srcRect l="0" t="1752" r="0" b="10211"/>
          <a:stretch/>
        </p:blipFill>
        <p:spPr>
          <a:xfrm>
            <a:off x="2732040" y="880920"/>
            <a:ext cx="7302600" cy="629928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Vulv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Line 3"/>
          <p:cNvSpPr/>
          <p:nvPr/>
        </p:nvSpPr>
        <p:spPr>
          <a:xfrm flipV="1">
            <a:off x="6514560" y="875880"/>
            <a:ext cx="2492280" cy="18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8955360" y="460800"/>
            <a:ext cx="249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ubic hai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Line 5"/>
          <p:cNvSpPr/>
          <p:nvPr/>
        </p:nvSpPr>
        <p:spPr>
          <a:xfrm flipV="1">
            <a:off x="5853960" y="2106360"/>
            <a:ext cx="2652840" cy="50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8610120" y="1680120"/>
            <a:ext cx="1740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litor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Line 7"/>
          <p:cNvSpPr/>
          <p:nvPr/>
        </p:nvSpPr>
        <p:spPr>
          <a:xfrm>
            <a:off x="5867280" y="3174840"/>
            <a:ext cx="3087720" cy="45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Rectangle 8"/>
          <p:cNvSpPr/>
          <p:nvPr/>
        </p:nvSpPr>
        <p:spPr>
          <a:xfrm>
            <a:off x="9050040" y="320400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6045120" y="4356000"/>
            <a:ext cx="1994040" cy="58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Rectangle 10"/>
          <p:cNvSpPr/>
          <p:nvPr/>
        </p:nvSpPr>
        <p:spPr>
          <a:xfrm>
            <a:off x="8028360" y="4601160"/>
            <a:ext cx="171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gin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Line 11"/>
          <p:cNvSpPr/>
          <p:nvPr/>
        </p:nvSpPr>
        <p:spPr>
          <a:xfrm flipV="1">
            <a:off x="3146400" y="3200040"/>
            <a:ext cx="2060640" cy="39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Rectangle 12"/>
          <p:cNvSpPr/>
          <p:nvPr/>
        </p:nvSpPr>
        <p:spPr>
          <a:xfrm>
            <a:off x="219960" y="2883960"/>
            <a:ext cx="35622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Outer labi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(Labia Majora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Line 13"/>
          <p:cNvSpPr/>
          <p:nvPr/>
        </p:nvSpPr>
        <p:spPr>
          <a:xfrm flipV="1">
            <a:off x="2502000" y="3735360"/>
            <a:ext cx="3178080" cy="140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Rectangle 14"/>
          <p:cNvSpPr/>
          <p:nvPr/>
        </p:nvSpPr>
        <p:spPr>
          <a:xfrm>
            <a:off x="526680" y="5131800"/>
            <a:ext cx="36079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Inner labi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(Labia minora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Line 15"/>
          <p:cNvSpPr/>
          <p:nvPr/>
        </p:nvSpPr>
        <p:spPr>
          <a:xfrm>
            <a:off x="3146400" y="1854360"/>
            <a:ext cx="2631960" cy="52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Rectangle 16"/>
          <p:cNvSpPr/>
          <p:nvPr/>
        </p:nvSpPr>
        <p:spPr>
          <a:xfrm>
            <a:off x="1422360" y="1149480"/>
            <a:ext cx="26542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litoral hoo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Line 17"/>
          <p:cNvSpPr/>
          <p:nvPr/>
        </p:nvSpPr>
        <p:spPr>
          <a:xfrm>
            <a:off x="6172200" y="5892840"/>
            <a:ext cx="1658880" cy="62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Rectangle 18"/>
          <p:cNvSpPr/>
          <p:nvPr/>
        </p:nvSpPr>
        <p:spPr>
          <a:xfrm>
            <a:off x="7823880" y="6150240"/>
            <a:ext cx="125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n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Rectangle 19"/>
          <p:cNvSpPr/>
          <p:nvPr/>
        </p:nvSpPr>
        <p:spPr>
          <a:xfrm>
            <a:off x="2355840" y="7469280"/>
            <a:ext cx="829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Esquema da vulva.jpg by Daniel Duclos, public domain, Wikimedia Commons, accessed August 20, 2013, http://commons.wikimedia.org/wiki/File:Esquema_da_vulva.jp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1" descr=""/>
          <p:cNvPicPr/>
          <p:nvPr/>
        </p:nvPicPr>
        <p:blipFill>
          <a:blip r:embed="rId1"/>
          <a:srcRect l="0" t="138" r="0" b="238"/>
          <a:stretch/>
        </p:blipFill>
        <p:spPr>
          <a:xfrm>
            <a:off x="2743200" y="304920"/>
            <a:ext cx="7137360" cy="676908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Line 3"/>
          <p:cNvSpPr/>
          <p:nvPr/>
        </p:nvSpPr>
        <p:spPr>
          <a:xfrm flipV="1">
            <a:off x="8966160" y="2847960"/>
            <a:ext cx="1612800" cy="169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10268640" y="2302200"/>
            <a:ext cx="134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en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Rectangle 1"/>
          <p:cNvSpPr/>
          <p:nvPr/>
        </p:nvSpPr>
        <p:spPr>
          <a:xfrm>
            <a:off x="3251160" y="746928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Penis.svg by Indolences, public domain, Wikipedia, accessed August 20, 2013, http://en.wikipedia.org/wiki/File:Penis.sv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1" descr=""/>
          <p:cNvPicPr/>
          <p:nvPr/>
        </p:nvPicPr>
        <p:blipFill>
          <a:blip r:embed="rId1"/>
          <a:srcRect l="0" t="138" r="0" b="238"/>
          <a:stretch/>
        </p:blipFill>
        <p:spPr>
          <a:xfrm>
            <a:off x="2743200" y="304920"/>
            <a:ext cx="7137360" cy="676908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Line 3"/>
          <p:cNvSpPr/>
          <p:nvPr/>
        </p:nvSpPr>
        <p:spPr>
          <a:xfrm flipV="1">
            <a:off x="8966160" y="2847960"/>
            <a:ext cx="1612800" cy="169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10268640" y="2302200"/>
            <a:ext cx="134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en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Line 5"/>
          <p:cNvSpPr/>
          <p:nvPr/>
        </p:nvSpPr>
        <p:spPr>
          <a:xfrm flipV="1">
            <a:off x="8876520" y="4782600"/>
            <a:ext cx="1987560" cy="89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10269360" y="424548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3251160" y="746928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Penis.svg by Indolences, public domain, Wikipedia, accessed August 20, 2013, http://en.wikipedia.org/wiki/File:Penis.sv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1" descr=""/>
          <p:cNvPicPr/>
          <p:nvPr/>
        </p:nvPicPr>
        <p:blipFill>
          <a:blip r:embed="rId1"/>
          <a:srcRect l="0" t="138" r="0" b="238"/>
          <a:stretch/>
        </p:blipFill>
        <p:spPr>
          <a:xfrm>
            <a:off x="2743200" y="304920"/>
            <a:ext cx="7137360" cy="676908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Line 3"/>
          <p:cNvSpPr/>
          <p:nvPr/>
        </p:nvSpPr>
        <p:spPr>
          <a:xfrm flipV="1">
            <a:off x="8966160" y="2847960"/>
            <a:ext cx="1612800" cy="169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10268640" y="2302200"/>
            <a:ext cx="134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en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Line 5"/>
          <p:cNvSpPr/>
          <p:nvPr/>
        </p:nvSpPr>
        <p:spPr>
          <a:xfrm flipV="1">
            <a:off x="8876520" y="4782600"/>
            <a:ext cx="1987560" cy="89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10269360" y="424548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Line 7"/>
          <p:cNvSpPr/>
          <p:nvPr/>
        </p:nvSpPr>
        <p:spPr>
          <a:xfrm flipH="1">
            <a:off x="6946560" y="1131840"/>
            <a:ext cx="431640" cy="17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6380280" y="587880"/>
            <a:ext cx="1959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Bladd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Rectangle 9"/>
          <p:cNvSpPr/>
          <p:nvPr/>
        </p:nvSpPr>
        <p:spPr>
          <a:xfrm>
            <a:off x="3251160" y="746928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Penis.svg by Indolences, public domain, Wikipedia, accessed August 20, 2013, http://en.wikipedia.org/wiki/File:Penis.sv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1" descr=""/>
          <p:cNvPicPr/>
          <p:nvPr/>
        </p:nvPicPr>
        <p:blipFill>
          <a:blip r:embed="rId1"/>
          <a:srcRect l="0" t="138" r="0" b="238"/>
          <a:stretch/>
        </p:blipFill>
        <p:spPr>
          <a:xfrm>
            <a:off x="2743200" y="304920"/>
            <a:ext cx="7137360" cy="676908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Line 3"/>
          <p:cNvSpPr/>
          <p:nvPr/>
        </p:nvSpPr>
        <p:spPr>
          <a:xfrm flipV="1">
            <a:off x="8966160" y="2847960"/>
            <a:ext cx="1612800" cy="169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10268640" y="2302200"/>
            <a:ext cx="134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en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Line 5"/>
          <p:cNvSpPr/>
          <p:nvPr/>
        </p:nvSpPr>
        <p:spPr>
          <a:xfrm flipV="1">
            <a:off x="8876520" y="4782600"/>
            <a:ext cx="1987560" cy="89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10269360" y="424548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Line 7"/>
          <p:cNvSpPr/>
          <p:nvPr/>
        </p:nvSpPr>
        <p:spPr>
          <a:xfrm flipH="1">
            <a:off x="6946560" y="1131840"/>
            <a:ext cx="431640" cy="17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6380280" y="587880"/>
            <a:ext cx="1959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Bladd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3204360" y="5972760"/>
            <a:ext cx="2112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crotu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Line 10"/>
          <p:cNvSpPr/>
          <p:nvPr/>
        </p:nvSpPr>
        <p:spPr>
          <a:xfrm>
            <a:off x="5276880" y="6435720"/>
            <a:ext cx="2139840" cy="37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Rectangle 11"/>
          <p:cNvSpPr/>
          <p:nvPr/>
        </p:nvSpPr>
        <p:spPr>
          <a:xfrm>
            <a:off x="3251160" y="746928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Penis.svg by Indolences, public domain, Wikipedia, accessed August 20, 2013, http://en.wikipedia.org/wiki/File:Penis.sv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1" descr=""/>
          <p:cNvPicPr/>
          <p:nvPr/>
        </p:nvPicPr>
        <p:blipFill>
          <a:blip r:embed="rId1"/>
          <a:srcRect l="0" t="138" r="0" b="238"/>
          <a:stretch/>
        </p:blipFill>
        <p:spPr>
          <a:xfrm>
            <a:off x="2743200" y="304920"/>
            <a:ext cx="7137360" cy="676908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Line 3"/>
          <p:cNvSpPr/>
          <p:nvPr/>
        </p:nvSpPr>
        <p:spPr>
          <a:xfrm flipV="1">
            <a:off x="8966160" y="2847960"/>
            <a:ext cx="1612800" cy="169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10268640" y="2302200"/>
            <a:ext cx="134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en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Line 5"/>
          <p:cNvSpPr/>
          <p:nvPr/>
        </p:nvSpPr>
        <p:spPr>
          <a:xfrm flipV="1">
            <a:off x="8876520" y="4782600"/>
            <a:ext cx="1987560" cy="89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10269360" y="424548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6" name="Line 7"/>
          <p:cNvSpPr/>
          <p:nvPr/>
        </p:nvSpPr>
        <p:spPr>
          <a:xfrm flipH="1">
            <a:off x="6946560" y="1131840"/>
            <a:ext cx="431640" cy="17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Rectangle 8"/>
          <p:cNvSpPr/>
          <p:nvPr/>
        </p:nvSpPr>
        <p:spPr>
          <a:xfrm>
            <a:off x="6380280" y="587880"/>
            <a:ext cx="1959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Bladd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Rectangle 9"/>
          <p:cNvSpPr/>
          <p:nvPr/>
        </p:nvSpPr>
        <p:spPr>
          <a:xfrm>
            <a:off x="1756800" y="6086880"/>
            <a:ext cx="2112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crotu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Line 10"/>
          <p:cNvSpPr/>
          <p:nvPr/>
        </p:nvSpPr>
        <p:spPr>
          <a:xfrm>
            <a:off x="3639960" y="6691320"/>
            <a:ext cx="377676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0" name="Line 11"/>
          <p:cNvSpPr/>
          <p:nvPr/>
        </p:nvSpPr>
        <p:spPr>
          <a:xfrm>
            <a:off x="6049800" y="6195960"/>
            <a:ext cx="157032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Rectangle 12"/>
          <p:cNvSpPr/>
          <p:nvPr/>
        </p:nvSpPr>
        <p:spPr>
          <a:xfrm>
            <a:off x="4387680" y="5820120"/>
            <a:ext cx="160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es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2" name="Rectangle 13"/>
          <p:cNvSpPr/>
          <p:nvPr/>
        </p:nvSpPr>
        <p:spPr>
          <a:xfrm>
            <a:off x="3251160" y="746928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Penis.svg by Indolences, public domain, Wikipedia, accessed August 20, 2013, http://en.wikipedia.org/wiki/File:Penis.sv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1" descr=""/>
          <p:cNvPicPr/>
          <p:nvPr/>
        </p:nvPicPr>
        <p:blipFill>
          <a:blip r:embed="rId1"/>
          <a:srcRect l="0" t="138" r="0" b="238"/>
          <a:stretch/>
        </p:blipFill>
        <p:spPr>
          <a:xfrm>
            <a:off x="2743200" y="304920"/>
            <a:ext cx="7137360" cy="676908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Line 3"/>
          <p:cNvSpPr/>
          <p:nvPr/>
        </p:nvSpPr>
        <p:spPr>
          <a:xfrm flipV="1">
            <a:off x="8966160" y="2847960"/>
            <a:ext cx="1612800" cy="169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10268640" y="2302200"/>
            <a:ext cx="134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en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Line 5"/>
          <p:cNvSpPr/>
          <p:nvPr/>
        </p:nvSpPr>
        <p:spPr>
          <a:xfrm flipV="1">
            <a:off x="8876520" y="4782600"/>
            <a:ext cx="1987560" cy="89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10269360" y="424548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Line 7"/>
          <p:cNvSpPr/>
          <p:nvPr/>
        </p:nvSpPr>
        <p:spPr>
          <a:xfrm flipH="1">
            <a:off x="6946560" y="1131840"/>
            <a:ext cx="431640" cy="17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Rectangle 8"/>
          <p:cNvSpPr/>
          <p:nvPr/>
        </p:nvSpPr>
        <p:spPr>
          <a:xfrm>
            <a:off x="6380280" y="587880"/>
            <a:ext cx="1959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Bladd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1" name="Rectangle 9"/>
          <p:cNvSpPr/>
          <p:nvPr/>
        </p:nvSpPr>
        <p:spPr>
          <a:xfrm>
            <a:off x="1756800" y="6086880"/>
            <a:ext cx="2112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crotu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Line 10"/>
          <p:cNvSpPr/>
          <p:nvPr/>
        </p:nvSpPr>
        <p:spPr>
          <a:xfrm>
            <a:off x="3639960" y="6691320"/>
            <a:ext cx="377676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Line 11"/>
          <p:cNvSpPr/>
          <p:nvPr/>
        </p:nvSpPr>
        <p:spPr>
          <a:xfrm>
            <a:off x="6049800" y="6195960"/>
            <a:ext cx="157032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4" name="Rectangle 12"/>
          <p:cNvSpPr/>
          <p:nvPr/>
        </p:nvSpPr>
        <p:spPr>
          <a:xfrm>
            <a:off x="4387680" y="5820120"/>
            <a:ext cx="160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es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Line 13"/>
          <p:cNvSpPr/>
          <p:nvPr/>
        </p:nvSpPr>
        <p:spPr>
          <a:xfrm flipH="1" flipV="1">
            <a:off x="2557440" y="3683160"/>
            <a:ext cx="3881520" cy="24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566640" y="3318480"/>
            <a:ext cx="2106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rostat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Rectangle 15"/>
          <p:cNvSpPr/>
          <p:nvPr/>
        </p:nvSpPr>
        <p:spPr>
          <a:xfrm>
            <a:off x="3251160" y="746928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Penis.svg by Indolences, public domain, Wikipedia, accessed August 20, 2013, http://en.wikipedia.org/wiki/File:Penis.sv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Everyone is differen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81756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It</a:t>
            </a:r>
            <a:r>
              <a:rPr b="0" lang="ja-JP" sz="4000" spc="-1" strike="noStrike">
                <a:solidFill>
                  <a:srgbClr val="000000"/>
                </a:solidFill>
                <a:latin typeface="Gill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 important to remember that everyone</a:t>
            </a:r>
            <a:r>
              <a:rPr b="0" lang="ja-JP" sz="4000" spc="-1" strike="noStrike">
                <a:solidFill>
                  <a:srgbClr val="000000"/>
                </a:solidFill>
                <a:latin typeface="Gill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 body is different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ze, shape, and colour of body parts vary from person to person. 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81756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e diagrams shown here do not represent everyone</a:t>
            </a:r>
            <a:r>
              <a:rPr b="0" lang="ja-JP" sz="4000" spc="-1" strike="noStrike">
                <a:solidFill>
                  <a:srgbClr val="000000"/>
                </a:solidFill>
                <a:latin typeface="Gill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 bodies including those who haven</a:t>
            </a:r>
            <a:r>
              <a:rPr b="0" lang="ja-JP" sz="4000" spc="-1" strike="noStrike">
                <a:solidFill>
                  <a:srgbClr val="000000"/>
                </a:solidFill>
                <a:latin typeface="Gill Sans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 reached puberty, with certain disabilities, or some who are intersex or transgendered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1" descr=""/>
          <p:cNvPicPr/>
          <p:nvPr/>
        </p:nvPicPr>
        <p:blipFill>
          <a:blip r:embed="rId1"/>
          <a:srcRect l="0" t="138" r="0" b="238"/>
          <a:stretch/>
        </p:blipFill>
        <p:spPr>
          <a:xfrm>
            <a:off x="2743200" y="304920"/>
            <a:ext cx="7137360" cy="6769080"/>
          </a:xfrm>
          <a:prstGeom prst="rect">
            <a:avLst/>
          </a:prstGeom>
          <a:ln w="0">
            <a:noFill/>
          </a:ln>
        </p:spPr>
      </p:pic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Line 3"/>
          <p:cNvSpPr/>
          <p:nvPr/>
        </p:nvSpPr>
        <p:spPr>
          <a:xfrm flipV="1">
            <a:off x="8966160" y="2847960"/>
            <a:ext cx="1612800" cy="169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10268640" y="2302200"/>
            <a:ext cx="134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en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Line 5"/>
          <p:cNvSpPr/>
          <p:nvPr/>
        </p:nvSpPr>
        <p:spPr>
          <a:xfrm flipV="1">
            <a:off x="8876520" y="4782600"/>
            <a:ext cx="1987560" cy="89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3" name="Rectangle 6"/>
          <p:cNvSpPr/>
          <p:nvPr/>
        </p:nvSpPr>
        <p:spPr>
          <a:xfrm>
            <a:off x="10269360" y="424548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Line 7"/>
          <p:cNvSpPr/>
          <p:nvPr/>
        </p:nvSpPr>
        <p:spPr>
          <a:xfrm flipH="1">
            <a:off x="6946560" y="1131840"/>
            <a:ext cx="431640" cy="17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Rectangle 8"/>
          <p:cNvSpPr/>
          <p:nvPr/>
        </p:nvSpPr>
        <p:spPr>
          <a:xfrm>
            <a:off x="6380280" y="587880"/>
            <a:ext cx="1959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Bladd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6" name="Rectangle 9"/>
          <p:cNvSpPr/>
          <p:nvPr/>
        </p:nvSpPr>
        <p:spPr>
          <a:xfrm>
            <a:off x="1756800" y="6086880"/>
            <a:ext cx="2112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crotu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Line 10"/>
          <p:cNvSpPr/>
          <p:nvPr/>
        </p:nvSpPr>
        <p:spPr>
          <a:xfrm>
            <a:off x="3639960" y="6691320"/>
            <a:ext cx="377676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Line 11"/>
          <p:cNvSpPr/>
          <p:nvPr/>
        </p:nvSpPr>
        <p:spPr>
          <a:xfrm>
            <a:off x="6049800" y="6195960"/>
            <a:ext cx="157032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9" name="Rectangle 12"/>
          <p:cNvSpPr/>
          <p:nvPr/>
        </p:nvSpPr>
        <p:spPr>
          <a:xfrm>
            <a:off x="4387680" y="5820120"/>
            <a:ext cx="160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es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0" name="Line 13"/>
          <p:cNvSpPr/>
          <p:nvPr/>
        </p:nvSpPr>
        <p:spPr>
          <a:xfrm flipH="1" flipV="1">
            <a:off x="2557440" y="3683160"/>
            <a:ext cx="3881520" cy="24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1" name="Rectangle 14"/>
          <p:cNvSpPr/>
          <p:nvPr/>
        </p:nvSpPr>
        <p:spPr>
          <a:xfrm>
            <a:off x="566640" y="3318480"/>
            <a:ext cx="2106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rostat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2" name="Line 15"/>
          <p:cNvSpPr/>
          <p:nvPr/>
        </p:nvSpPr>
        <p:spPr>
          <a:xfrm flipV="1">
            <a:off x="7581960" y="1392120"/>
            <a:ext cx="2868480" cy="104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3" name="Rectangle 16"/>
          <p:cNvSpPr/>
          <p:nvPr/>
        </p:nvSpPr>
        <p:spPr>
          <a:xfrm>
            <a:off x="9630720" y="714960"/>
            <a:ext cx="3231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s defere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Rectangle 17"/>
          <p:cNvSpPr/>
          <p:nvPr/>
        </p:nvSpPr>
        <p:spPr>
          <a:xfrm>
            <a:off x="3251160" y="746928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Penis.svg by Indolences, public domain, Wikipedia, accessed August 20, 2013, http://en.wikipedia.org/wiki/File:Penis.sv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1" descr=""/>
          <p:cNvPicPr/>
          <p:nvPr/>
        </p:nvPicPr>
        <p:blipFill>
          <a:blip r:embed="rId1"/>
          <a:srcRect l="0" t="138" r="0" b="238"/>
          <a:stretch/>
        </p:blipFill>
        <p:spPr>
          <a:xfrm>
            <a:off x="2743200" y="304920"/>
            <a:ext cx="7137360" cy="676908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Line 3"/>
          <p:cNvSpPr/>
          <p:nvPr/>
        </p:nvSpPr>
        <p:spPr>
          <a:xfrm flipV="1">
            <a:off x="8966160" y="2847960"/>
            <a:ext cx="1612800" cy="169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10268640" y="2302200"/>
            <a:ext cx="134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en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9" name="Line 5"/>
          <p:cNvSpPr/>
          <p:nvPr/>
        </p:nvSpPr>
        <p:spPr>
          <a:xfrm flipV="1">
            <a:off x="8876520" y="4782600"/>
            <a:ext cx="1987560" cy="89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10269360" y="424548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1" name="Line 7"/>
          <p:cNvSpPr/>
          <p:nvPr/>
        </p:nvSpPr>
        <p:spPr>
          <a:xfrm flipH="1">
            <a:off x="6946560" y="1131840"/>
            <a:ext cx="431640" cy="17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2" name="Rectangle 8"/>
          <p:cNvSpPr/>
          <p:nvPr/>
        </p:nvSpPr>
        <p:spPr>
          <a:xfrm>
            <a:off x="6380280" y="587880"/>
            <a:ext cx="1959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Bladd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Rectangle 9"/>
          <p:cNvSpPr/>
          <p:nvPr/>
        </p:nvSpPr>
        <p:spPr>
          <a:xfrm>
            <a:off x="1756800" y="6086880"/>
            <a:ext cx="2112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crotu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4" name="Line 10"/>
          <p:cNvSpPr/>
          <p:nvPr/>
        </p:nvSpPr>
        <p:spPr>
          <a:xfrm>
            <a:off x="3639960" y="6691320"/>
            <a:ext cx="377676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5" name="Line 11"/>
          <p:cNvSpPr/>
          <p:nvPr/>
        </p:nvSpPr>
        <p:spPr>
          <a:xfrm>
            <a:off x="6049800" y="6195960"/>
            <a:ext cx="157032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Rectangle 12"/>
          <p:cNvSpPr/>
          <p:nvPr/>
        </p:nvSpPr>
        <p:spPr>
          <a:xfrm>
            <a:off x="4387680" y="5820120"/>
            <a:ext cx="160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es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7" name="Line 13"/>
          <p:cNvSpPr/>
          <p:nvPr/>
        </p:nvSpPr>
        <p:spPr>
          <a:xfrm flipH="1" flipV="1">
            <a:off x="2557440" y="3683160"/>
            <a:ext cx="3881520" cy="24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8" name="Rectangle 14"/>
          <p:cNvSpPr/>
          <p:nvPr/>
        </p:nvSpPr>
        <p:spPr>
          <a:xfrm>
            <a:off x="566640" y="3318480"/>
            <a:ext cx="2106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rostat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Line 15"/>
          <p:cNvSpPr/>
          <p:nvPr/>
        </p:nvSpPr>
        <p:spPr>
          <a:xfrm flipV="1">
            <a:off x="7581960" y="1392120"/>
            <a:ext cx="2868480" cy="104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0" name="Rectangle 16"/>
          <p:cNvSpPr/>
          <p:nvPr/>
        </p:nvSpPr>
        <p:spPr>
          <a:xfrm>
            <a:off x="9630720" y="714960"/>
            <a:ext cx="3231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s defere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1" name="Line 17"/>
          <p:cNvSpPr/>
          <p:nvPr/>
        </p:nvSpPr>
        <p:spPr>
          <a:xfrm>
            <a:off x="2511360" y="2185920"/>
            <a:ext cx="3191040" cy="11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Rectangle 18"/>
          <p:cNvSpPr/>
          <p:nvPr/>
        </p:nvSpPr>
        <p:spPr>
          <a:xfrm>
            <a:off x="743760" y="1360080"/>
            <a:ext cx="21326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eminal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esicl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3" name="Rectangle 19"/>
          <p:cNvSpPr/>
          <p:nvPr/>
        </p:nvSpPr>
        <p:spPr>
          <a:xfrm>
            <a:off x="3251160" y="746928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Penis.svg by Indolences, public domain, Wikipedia, accessed August 20, 2013, http://en.wikipedia.org/wiki/File:Penis.sv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1" descr=""/>
          <p:cNvPicPr/>
          <p:nvPr/>
        </p:nvPicPr>
        <p:blipFill>
          <a:blip r:embed="rId1"/>
          <a:srcRect l="0" t="138" r="0" b="238"/>
          <a:stretch/>
        </p:blipFill>
        <p:spPr>
          <a:xfrm>
            <a:off x="2743200" y="304920"/>
            <a:ext cx="7137360" cy="676908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6" name="Line 3"/>
          <p:cNvSpPr/>
          <p:nvPr/>
        </p:nvSpPr>
        <p:spPr>
          <a:xfrm flipV="1">
            <a:off x="8966160" y="2847960"/>
            <a:ext cx="1612800" cy="169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10268640" y="2302200"/>
            <a:ext cx="134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en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Line 5"/>
          <p:cNvSpPr/>
          <p:nvPr/>
        </p:nvSpPr>
        <p:spPr>
          <a:xfrm flipV="1">
            <a:off x="8876520" y="4782600"/>
            <a:ext cx="1987560" cy="89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9" name="Rectangle 6"/>
          <p:cNvSpPr/>
          <p:nvPr/>
        </p:nvSpPr>
        <p:spPr>
          <a:xfrm>
            <a:off x="10269360" y="424548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0" name="Line 7"/>
          <p:cNvSpPr/>
          <p:nvPr/>
        </p:nvSpPr>
        <p:spPr>
          <a:xfrm flipH="1">
            <a:off x="6946560" y="1131840"/>
            <a:ext cx="431640" cy="17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Rectangle 8"/>
          <p:cNvSpPr/>
          <p:nvPr/>
        </p:nvSpPr>
        <p:spPr>
          <a:xfrm>
            <a:off x="6380280" y="587880"/>
            <a:ext cx="1959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Bladd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2" name="Rectangle 9"/>
          <p:cNvSpPr/>
          <p:nvPr/>
        </p:nvSpPr>
        <p:spPr>
          <a:xfrm>
            <a:off x="1756800" y="6086880"/>
            <a:ext cx="2112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crotu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3" name="Line 10"/>
          <p:cNvSpPr/>
          <p:nvPr/>
        </p:nvSpPr>
        <p:spPr>
          <a:xfrm>
            <a:off x="3639960" y="6691320"/>
            <a:ext cx="377676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Line 11"/>
          <p:cNvSpPr/>
          <p:nvPr/>
        </p:nvSpPr>
        <p:spPr>
          <a:xfrm>
            <a:off x="6049800" y="6195960"/>
            <a:ext cx="1570320" cy="1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5" name="Rectangle 12"/>
          <p:cNvSpPr/>
          <p:nvPr/>
        </p:nvSpPr>
        <p:spPr>
          <a:xfrm>
            <a:off x="4387680" y="5820120"/>
            <a:ext cx="1602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es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6" name="Line 13"/>
          <p:cNvSpPr/>
          <p:nvPr/>
        </p:nvSpPr>
        <p:spPr>
          <a:xfrm flipH="1" flipV="1">
            <a:off x="2557440" y="3683160"/>
            <a:ext cx="3881520" cy="241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7" name="Rectangle 14"/>
          <p:cNvSpPr/>
          <p:nvPr/>
        </p:nvSpPr>
        <p:spPr>
          <a:xfrm>
            <a:off x="566640" y="3318480"/>
            <a:ext cx="2106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rostat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8" name="Line 15"/>
          <p:cNvSpPr/>
          <p:nvPr/>
        </p:nvSpPr>
        <p:spPr>
          <a:xfrm flipV="1">
            <a:off x="7581960" y="1392120"/>
            <a:ext cx="2868480" cy="104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9" name="Rectangle 16"/>
          <p:cNvSpPr/>
          <p:nvPr/>
        </p:nvSpPr>
        <p:spPr>
          <a:xfrm>
            <a:off x="9630720" y="714960"/>
            <a:ext cx="3231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s defere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0" name="Line 17"/>
          <p:cNvSpPr/>
          <p:nvPr/>
        </p:nvSpPr>
        <p:spPr>
          <a:xfrm>
            <a:off x="2511360" y="2185920"/>
            <a:ext cx="3191040" cy="11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1" name="Rectangle 18"/>
          <p:cNvSpPr/>
          <p:nvPr/>
        </p:nvSpPr>
        <p:spPr>
          <a:xfrm>
            <a:off x="743760" y="1360080"/>
            <a:ext cx="21326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Seminal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esicl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2" name="Line 19"/>
          <p:cNvSpPr/>
          <p:nvPr/>
        </p:nvSpPr>
        <p:spPr>
          <a:xfrm flipV="1">
            <a:off x="2403360" y="4803840"/>
            <a:ext cx="2919600" cy="51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Rectangle 20"/>
          <p:cNvSpPr/>
          <p:nvPr/>
        </p:nvSpPr>
        <p:spPr>
          <a:xfrm>
            <a:off x="1181520" y="5007240"/>
            <a:ext cx="125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n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Rectangle 21"/>
          <p:cNvSpPr/>
          <p:nvPr/>
        </p:nvSpPr>
        <p:spPr>
          <a:xfrm>
            <a:off x="3251160" y="7469280"/>
            <a:ext cx="65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Penis.svg by Indolences, public domain, Wikipedia, accessed August 20, 2013, http://en.wikipedia.org/wiki/File:Penis.sv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1" descr=""/>
          <p:cNvPicPr/>
          <p:nvPr/>
        </p:nvPicPr>
        <p:blipFill>
          <a:blip r:embed="rId1"/>
          <a:srcRect l="0" t="14033" r="0" b="13999"/>
          <a:stretch/>
        </p:blipFill>
        <p:spPr>
          <a:xfrm>
            <a:off x="784080" y="711360"/>
            <a:ext cx="11366640" cy="6375240"/>
          </a:xfrm>
          <a:prstGeom prst="rect">
            <a:avLst/>
          </a:prstGeom>
          <a:ln w="0">
            <a:noFill/>
          </a:ln>
        </p:spPr>
      </p:pic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e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7" name="Rectangle 1"/>
          <p:cNvSpPr/>
          <p:nvPr/>
        </p:nvSpPr>
        <p:spPr>
          <a:xfrm>
            <a:off x="1781280" y="7253280"/>
            <a:ext cx="94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Uterus and Nearby Organs by NIH Medical Arts, public domain, National Cancer Institute, accessed August 20, 2013, http://visualsonline.cancer.gov/details.cfm?imageid=4369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1" descr=""/>
          <p:cNvPicPr/>
          <p:nvPr/>
        </p:nvPicPr>
        <p:blipFill>
          <a:blip r:embed="rId1"/>
          <a:srcRect l="0" t="14033" r="0" b="13999"/>
          <a:stretch/>
        </p:blipFill>
        <p:spPr>
          <a:xfrm>
            <a:off x="784080" y="711360"/>
            <a:ext cx="11366640" cy="63752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e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0" name="Line 3"/>
          <p:cNvSpPr/>
          <p:nvPr/>
        </p:nvSpPr>
        <p:spPr>
          <a:xfrm>
            <a:off x="6459480" y="5730840"/>
            <a:ext cx="1674720" cy="64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1" name="Rectangle 4"/>
          <p:cNvSpPr/>
          <p:nvPr/>
        </p:nvSpPr>
        <p:spPr>
          <a:xfrm>
            <a:off x="7965000" y="6048720"/>
            <a:ext cx="171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gin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1781280" y="7253280"/>
            <a:ext cx="94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Uterus and Nearby Organs by NIH Medical Arts, public domain, National Cancer Institute, accessed August 20, 2013, http://visualsonline.cancer.gov/details.cfm?imageid=4369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1" descr=""/>
          <p:cNvPicPr/>
          <p:nvPr/>
        </p:nvPicPr>
        <p:blipFill>
          <a:blip r:embed="rId1"/>
          <a:srcRect l="0" t="14033" r="0" b="13999"/>
          <a:stretch/>
        </p:blipFill>
        <p:spPr>
          <a:xfrm>
            <a:off x="784080" y="711360"/>
            <a:ext cx="11366640" cy="6375240"/>
          </a:xfrm>
          <a:prstGeom prst="rect">
            <a:avLst/>
          </a:prstGeom>
          <a:ln w="0">
            <a:noFill/>
          </a:ln>
        </p:spPr>
      </p:pic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e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5" name="Line 3"/>
          <p:cNvSpPr/>
          <p:nvPr/>
        </p:nvSpPr>
        <p:spPr>
          <a:xfrm>
            <a:off x="6459480" y="5730840"/>
            <a:ext cx="1674720" cy="64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Rectangle 4"/>
          <p:cNvSpPr/>
          <p:nvPr/>
        </p:nvSpPr>
        <p:spPr>
          <a:xfrm>
            <a:off x="7965000" y="6048720"/>
            <a:ext cx="171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gin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Line 5"/>
          <p:cNvSpPr/>
          <p:nvPr/>
        </p:nvSpPr>
        <p:spPr>
          <a:xfrm>
            <a:off x="6743880" y="4457880"/>
            <a:ext cx="2008080" cy="5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Rectangle 6"/>
          <p:cNvSpPr/>
          <p:nvPr/>
        </p:nvSpPr>
        <p:spPr>
          <a:xfrm>
            <a:off x="8839800" y="4169160"/>
            <a:ext cx="1689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ter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1781280" y="7253280"/>
            <a:ext cx="94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Uterus and Nearby Organs by NIH Medical Arts, public domain, National Cancer Institute, accessed August 20, 2013, http://visualsonline.cancer.gov/details.cfm?imageid=4369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1" descr=""/>
          <p:cNvPicPr/>
          <p:nvPr/>
        </p:nvPicPr>
        <p:blipFill>
          <a:blip r:embed="rId1"/>
          <a:srcRect l="0" t="14033" r="0" b="13999"/>
          <a:stretch/>
        </p:blipFill>
        <p:spPr>
          <a:xfrm>
            <a:off x="784080" y="711360"/>
            <a:ext cx="11366640" cy="637524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e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2" name="Line 3"/>
          <p:cNvSpPr/>
          <p:nvPr/>
        </p:nvSpPr>
        <p:spPr>
          <a:xfrm>
            <a:off x="6459480" y="5730840"/>
            <a:ext cx="1674720" cy="64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3" name="Rectangle 4"/>
          <p:cNvSpPr/>
          <p:nvPr/>
        </p:nvSpPr>
        <p:spPr>
          <a:xfrm>
            <a:off x="7965000" y="6048720"/>
            <a:ext cx="171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gin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Line 5"/>
          <p:cNvSpPr/>
          <p:nvPr/>
        </p:nvSpPr>
        <p:spPr>
          <a:xfrm>
            <a:off x="6743880" y="4457880"/>
            <a:ext cx="2008080" cy="5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Rectangle 6"/>
          <p:cNvSpPr/>
          <p:nvPr/>
        </p:nvSpPr>
        <p:spPr>
          <a:xfrm>
            <a:off x="8839800" y="4169160"/>
            <a:ext cx="1689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ter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Line 7"/>
          <p:cNvSpPr/>
          <p:nvPr/>
        </p:nvSpPr>
        <p:spPr>
          <a:xfrm flipV="1">
            <a:off x="4923720" y="2472840"/>
            <a:ext cx="1228680" cy="135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7" name="Line 8"/>
          <p:cNvSpPr/>
          <p:nvPr/>
        </p:nvSpPr>
        <p:spPr>
          <a:xfrm>
            <a:off x="6773760" y="2484360"/>
            <a:ext cx="1049400" cy="130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8" name="Rectangle 9"/>
          <p:cNvSpPr/>
          <p:nvPr/>
        </p:nvSpPr>
        <p:spPr>
          <a:xfrm>
            <a:off x="5520240" y="1845000"/>
            <a:ext cx="1901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Ovar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9" name="Rectangle 10"/>
          <p:cNvSpPr/>
          <p:nvPr/>
        </p:nvSpPr>
        <p:spPr>
          <a:xfrm>
            <a:off x="1781280" y="7253280"/>
            <a:ext cx="94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Uterus and Nearby Organs by NIH Medical Arts, public domain, National Cancer Institute, accessed August 20, 2013, http://visualsonline.cancer.gov/details.cfm?imageid=4369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1" descr=""/>
          <p:cNvPicPr/>
          <p:nvPr/>
        </p:nvPicPr>
        <p:blipFill>
          <a:blip r:embed="rId1"/>
          <a:srcRect l="0" t="14033" r="0" b="13999"/>
          <a:stretch/>
        </p:blipFill>
        <p:spPr>
          <a:xfrm>
            <a:off x="784080" y="711360"/>
            <a:ext cx="11366640" cy="6375240"/>
          </a:xfrm>
          <a:prstGeom prst="rect">
            <a:avLst/>
          </a:prstGeom>
          <a:ln w="0">
            <a:noFill/>
          </a:ln>
        </p:spPr>
      </p:pic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e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2" name="Line 3"/>
          <p:cNvSpPr/>
          <p:nvPr/>
        </p:nvSpPr>
        <p:spPr>
          <a:xfrm>
            <a:off x="6459480" y="5730840"/>
            <a:ext cx="1674720" cy="64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Rectangle 4"/>
          <p:cNvSpPr/>
          <p:nvPr/>
        </p:nvSpPr>
        <p:spPr>
          <a:xfrm>
            <a:off x="7965000" y="6048720"/>
            <a:ext cx="171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gin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4" name="Line 5"/>
          <p:cNvSpPr/>
          <p:nvPr/>
        </p:nvSpPr>
        <p:spPr>
          <a:xfrm>
            <a:off x="6743880" y="4457880"/>
            <a:ext cx="2008080" cy="5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Rectangle 6"/>
          <p:cNvSpPr/>
          <p:nvPr/>
        </p:nvSpPr>
        <p:spPr>
          <a:xfrm>
            <a:off x="8839800" y="4169160"/>
            <a:ext cx="1689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ter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6" name="Line 7"/>
          <p:cNvSpPr/>
          <p:nvPr/>
        </p:nvSpPr>
        <p:spPr>
          <a:xfrm flipV="1">
            <a:off x="4923720" y="2472840"/>
            <a:ext cx="1228680" cy="135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7" name="Line 8"/>
          <p:cNvSpPr/>
          <p:nvPr/>
        </p:nvSpPr>
        <p:spPr>
          <a:xfrm>
            <a:off x="6773760" y="2484360"/>
            <a:ext cx="1049400" cy="130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8" name="Rectangle 9"/>
          <p:cNvSpPr/>
          <p:nvPr/>
        </p:nvSpPr>
        <p:spPr>
          <a:xfrm>
            <a:off x="5520240" y="1845000"/>
            <a:ext cx="1901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Ovar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Line 10"/>
          <p:cNvSpPr/>
          <p:nvPr/>
        </p:nvSpPr>
        <p:spPr>
          <a:xfrm flipH="1">
            <a:off x="4597200" y="1693800"/>
            <a:ext cx="1228680" cy="11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0" name="Line 11"/>
          <p:cNvSpPr/>
          <p:nvPr/>
        </p:nvSpPr>
        <p:spPr>
          <a:xfrm>
            <a:off x="7113600" y="1658880"/>
            <a:ext cx="1039680" cy="11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Rectangle 12"/>
          <p:cNvSpPr/>
          <p:nvPr/>
        </p:nvSpPr>
        <p:spPr>
          <a:xfrm>
            <a:off x="4512960" y="930600"/>
            <a:ext cx="391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Fallopian Tub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1781280" y="7253280"/>
            <a:ext cx="94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Uterus and Nearby Organs by NIH Medical Arts, public domain, National Cancer Institute, accessed August 20, 2013, http://visualsonline.cancer.gov/details.cfm?imageid=4369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1" descr=""/>
          <p:cNvPicPr/>
          <p:nvPr/>
        </p:nvPicPr>
        <p:blipFill>
          <a:blip r:embed="rId1"/>
          <a:srcRect l="0" t="14033" r="0" b="13999"/>
          <a:stretch/>
        </p:blipFill>
        <p:spPr>
          <a:xfrm>
            <a:off x="784080" y="711360"/>
            <a:ext cx="11366640" cy="637524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emale internal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5" name="Line 3"/>
          <p:cNvSpPr/>
          <p:nvPr/>
        </p:nvSpPr>
        <p:spPr>
          <a:xfrm>
            <a:off x="6459480" y="5730840"/>
            <a:ext cx="1674720" cy="641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7965000" y="6048720"/>
            <a:ext cx="171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gin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7" name="Line 5"/>
          <p:cNvSpPr/>
          <p:nvPr/>
        </p:nvSpPr>
        <p:spPr>
          <a:xfrm>
            <a:off x="6743880" y="4457880"/>
            <a:ext cx="2008080" cy="5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8839800" y="4169160"/>
            <a:ext cx="1689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ter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9" name="Line 7"/>
          <p:cNvSpPr/>
          <p:nvPr/>
        </p:nvSpPr>
        <p:spPr>
          <a:xfrm flipV="1">
            <a:off x="4923720" y="2472840"/>
            <a:ext cx="1228680" cy="135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0" name="Line 8"/>
          <p:cNvSpPr/>
          <p:nvPr/>
        </p:nvSpPr>
        <p:spPr>
          <a:xfrm>
            <a:off x="6773760" y="2484360"/>
            <a:ext cx="1049400" cy="1300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1" name="Rectangle 9"/>
          <p:cNvSpPr/>
          <p:nvPr/>
        </p:nvSpPr>
        <p:spPr>
          <a:xfrm>
            <a:off x="5520240" y="1845000"/>
            <a:ext cx="1901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Ovar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2" name="Line 10"/>
          <p:cNvSpPr/>
          <p:nvPr/>
        </p:nvSpPr>
        <p:spPr>
          <a:xfrm flipH="1">
            <a:off x="4597200" y="1693800"/>
            <a:ext cx="1228680" cy="111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3" name="Line 11"/>
          <p:cNvSpPr/>
          <p:nvPr/>
        </p:nvSpPr>
        <p:spPr>
          <a:xfrm>
            <a:off x="7113600" y="1658880"/>
            <a:ext cx="1039680" cy="11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4" name="Rectangle 12"/>
          <p:cNvSpPr/>
          <p:nvPr/>
        </p:nvSpPr>
        <p:spPr>
          <a:xfrm>
            <a:off x="4512960" y="930600"/>
            <a:ext cx="391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Fallopian Tub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5" name="Line 13"/>
          <p:cNvSpPr/>
          <p:nvPr/>
        </p:nvSpPr>
        <p:spPr>
          <a:xfrm>
            <a:off x="6413400" y="5105520"/>
            <a:ext cx="2055960" cy="33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6" name="Rectangle 14"/>
          <p:cNvSpPr/>
          <p:nvPr/>
        </p:nvSpPr>
        <p:spPr>
          <a:xfrm>
            <a:off x="8516160" y="5109120"/>
            <a:ext cx="1549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ervix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7" name="Rectangle 15"/>
          <p:cNvSpPr/>
          <p:nvPr/>
        </p:nvSpPr>
        <p:spPr>
          <a:xfrm>
            <a:off x="1781280" y="7253280"/>
            <a:ext cx="94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Uterus and Nearby Organs by NIH Medical Arts, public domain, National Cancer Institute, accessed August 20, 2013, http://visualsonline.cancer.gov/details.cfm?imageid=4369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EMBED THIS VIDE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&lt;iframe width="560" height="315" src="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youtube.com/embed/t9tFk835vjo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" frameborder="0" allowfullscreen&gt;&lt;/iframe&gt;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ale Extern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73280" indent="-4968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** insert pictures of circumcised and uncircumcised penises and label: pubic hair, penis, foreskin, urethra, scrotum, shaft, glans. Mention that both ways are completely normal. Briefly mention reasons a family might have chosen circumcision (culture, religion, fashion at the time)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773280" indent="-4968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mind that size and shape variations are norma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" descr=""/>
          <p:cNvPicPr/>
          <p:nvPr/>
        </p:nvPicPr>
        <p:blipFill>
          <a:blip r:embed="rId1"/>
          <a:srcRect l="13178" t="0" r="13400" b="0"/>
          <a:stretch/>
        </p:blipFill>
        <p:spPr>
          <a:xfrm>
            <a:off x="7175520" y="2882880"/>
            <a:ext cx="4102200" cy="54738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emale externa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outer part of a girls genitals is called the vulva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2355840" y="8548560"/>
            <a:ext cx="829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Esquema da vulva.jpg by Daniel Duclos, public domain, Wikimedia Commons, accessed August 20, 2013, http://commons.wikimedia.org/wiki/File:Esquema_da_vulva.jp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1" descr=""/>
          <p:cNvPicPr/>
          <p:nvPr/>
        </p:nvPicPr>
        <p:blipFill>
          <a:blip r:embed="rId1"/>
          <a:srcRect l="0" t="1752" r="0" b="10211"/>
          <a:stretch/>
        </p:blipFill>
        <p:spPr>
          <a:xfrm>
            <a:off x="2732040" y="880920"/>
            <a:ext cx="7302600" cy="629928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Vulv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Line 3"/>
          <p:cNvSpPr/>
          <p:nvPr/>
        </p:nvSpPr>
        <p:spPr>
          <a:xfrm flipV="1">
            <a:off x="6514560" y="875880"/>
            <a:ext cx="2492280" cy="18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8955360" y="460800"/>
            <a:ext cx="249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ubic hai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2355840" y="7469280"/>
            <a:ext cx="829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Esquema da vulva.jpg by Daniel Duclos, public domain, Wikimedia Commons, accessed August 20, 2013, http://commons.wikimedia.org/wiki/File:Esquema_da_vulva.jp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1" descr=""/>
          <p:cNvPicPr/>
          <p:nvPr/>
        </p:nvPicPr>
        <p:blipFill>
          <a:blip r:embed="rId1"/>
          <a:srcRect l="0" t="1752" r="0" b="10211"/>
          <a:stretch/>
        </p:blipFill>
        <p:spPr>
          <a:xfrm>
            <a:off x="2732040" y="880920"/>
            <a:ext cx="7302600" cy="629928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Vulv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Line 3"/>
          <p:cNvSpPr/>
          <p:nvPr/>
        </p:nvSpPr>
        <p:spPr>
          <a:xfrm flipV="1">
            <a:off x="6514560" y="875880"/>
            <a:ext cx="2492280" cy="18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8955360" y="460800"/>
            <a:ext cx="249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ubic hai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Line 5"/>
          <p:cNvSpPr/>
          <p:nvPr/>
        </p:nvSpPr>
        <p:spPr>
          <a:xfrm flipV="1">
            <a:off x="5853960" y="2106360"/>
            <a:ext cx="2652840" cy="50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8610120" y="1680120"/>
            <a:ext cx="1740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litor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2355840" y="7469280"/>
            <a:ext cx="829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Esquema da vulva.jpg by Daniel Duclos, public domain, Wikimedia Commons, accessed August 20, 2013, http://commons.wikimedia.org/wiki/File:Esquema_da_vulva.jp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" descr=""/>
          <p:cNvPicPr/>
          <p:nvPr/>
        </p:nvPicPr>
        <p:blipFill>
          <a:blip r:embed="rId1"/>
          <a:srcRect l="0" t="1752" r="0" b="10211"/>
          <a:stretch/>
        </p:blipFill>
        <p:spPr>
          <a:xfrm>
            <a:off x="2732040" y="880920"/>
            <a:ext cx="7302600" cy="629928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Vulv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Line 3"/>
          <p:cNvSpPr/>
          <p:nvPr/>
        </p:nvSpPr>
        <p:spPr>
          <a:xfrm flipV="1">
            <a:off x="6514560" y="875880"/>
            <a:ext cx="2492280" cy="18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8955360" y="460800"/>
            <a:ext cx="249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ubic hai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Line 5"/>
          <p:cNvSpPr/>
          <p:nvPr/>
        </p:nvSpPr>
        <p:spPr>
          <a:xfrm flipV="1">
            <a:off x="5853960" y="2106360"/>
            <a:ext cx="2652840" cy="50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8610120" y="1680120"/>
            <a:ext cx="1740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litor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Line 7"/>
          <p:cNvSpPr/>
          <p:nvPr/>
        </p:nvSpPr>
        <p:spPr>
          <a:xfrm>
            <a:off x="5867280" y="3174840"/>
            <a:ext cx="3087720" cy="45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Rectangle 8"/>
          <p:cNvSpPr/>
          <p:nvPr/>
        </p:nvSpPr>
        <p:spPr>
          <a:xfrm>
            <a:off x="9050040" y="320400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2355840" y="7469280"/>
            <a:ext cx="829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Esquema da vulva.jpg by Daniel Duclos, public domain, Wikimedia Commons, accessed August 20, 2013, http://commons.wikimedia.org/wiki/File:Esquema_da_vulva.jp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1" descr=""/>
          <p:cNvPicPr/>
          <p:nvPr/>
        </p:nvPicPr>
        <p:blipFill>
          <a:blip r:embed="rId1"/>
          <a:srcRect l="0" t="1752" r="0" b="10211"/>
          <a:stretch/>
        </p:blipFill>
        <p:spPr>
          <a:xfrm>
            <a:off x="2732040" y="880920"/>
            <a:ext cx="7302600" cy="629928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 Vulv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Line 3"/>
          <p:cNvSpPr/>
          <p:nvPr/>
        </p:nvSpPr>
        <p:spPr>
          <a:xfrm flipV="1">
            <a:off x="6514560" y="875880"/>
            <a:ext cx="2492280" cy="18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8955360" y="460800"/>
            <a:ext cx="249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Pubic hai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Line 5"/>
          <p:cNvSpPr/>
          <p:nvPr/>
        </p:nvSpPr>
        <p:spPr>
          <a:xfrm flipV="1">
            <a:off x="5853960" y="2106360"/>
            <a:ext cx="2652840" cy="50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8610120" y="1680120"/>
            <a:ext cx="1740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litor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Line 7"/>
          <p:cNvSpPr/>
          <p:nvPr/>
        </p:nvSpPr>
        <p:spPr>
          <a:xfrm>
            <a:off x="5867280" y="3174840"/>
            <a:ext cx="3087720" cy="45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9050040" y="3204000"/>
            <a:ext cx="195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Urethr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6045120" y="4356000"/>
            <a:ext cx="1994040" cy="58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Rectangle 10"/>
          <p:cNvSpPr/>
          <p:nvPr/>
        </p:nvSpPr>
        <p:spPr>
          <a:xfrm>
            <a:off x="8028360" y="4601160"/>
            <a:ext cx="1712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Vagin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Rectangle 11"/>
          <p:cNvSpPr/>
          <p:nvPr/>
        </p:nvSpPr>
        <p:spPr>
          <a:xfrm>
            <a:off x="2355840" y="7469280"/>
            <a:ext cx="829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ill Sans"/>
              </a:rPr>
              <a:t>Esquema da vulva.jpg by Daniel Duclos, public domain, Wikimedia Commons, accessed August 20, 2013, http://commons.wikimedia.org/wiki/File:Esquema_da_vulva.jpg</a:t>
            </a: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mes</dc:creator>
  <dc:description/>
  <cp:keywords/>
  <dc:language>en-US</dc:language>
  <cp:lastModifiedBy>Robert Costain</cp:lastModifiedBy>
  <dcterms:modified xsi:type="dcterms:W3CDTF">2014-01-11T22:08:19Z</dcterms:modified>
  <cp:revision>4</cp:revision>
  <dc:subject/>
  <dc:title>The Reproductive System</dc:title>
</cp:coreProperties>
</file>