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414440" y="8756640"/>
            <a:ext cx="101757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embed/t9tFk835vjo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Reproductive Syste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6892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2254320" y="833292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6892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Line 13"/>
          <p:cNvSpPr/>
          <p:nvPr/>
        </p:nvSpPr>
        <p:spPr>
          <a:xfrm flipV="1">
            <a:off x="2502000" y="3735360"/>
            <a:ext cx="3178080" cy="140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526680" y="5131800"/>
            <a:ext cx="3607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n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in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2254320" y="833292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6892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Line 13"/>
          <p:cNvSpPr/>
          <p:nvPr/>
        </p:nvSpPr>
        <p:spPr>
          <a:xfrm flipV="1">
            <a:off x="2502000" y="3735360"/>
            <a:ext cx="3178080" cy="140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526680" y="5131800"/>
            <a:ext cx="3607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n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in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Line 15"/>
          <p:cNvSpPr/>
          <p:nvPr/>
        </p:nvSpPr>
        <p:spPr>
          <a:xfrm>
            <a:off x="3146400" y="1854360"/>
            <a:ext cx="2631960" cy="52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1422360" y="1149480"/>
            <a:ext cx="2654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al hoo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2254320" y="833292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6892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2502000" y="3735360"/>
            <a:ext cx="3178080" cy="140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Rectangle 14"/>
          <p:cNvSpPr/>
          <p:nvPr/>
        </p:nvSpPr>
        <p:spPr>
          <a:xfrm>
            <a:off x="526680" y="5131800"/>
            <a:ext cx="3607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n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in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3146400" y="1854360"/>
            <a:ext cx="2631960" cy="52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1422360" y="1149480"/>
            <a:ext cx="2654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al hoo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Line 17"/>
          <p:cNvSpPr/>
          <p:nvPr/>
        </p:nvSpPr>
        <p:spPr>
          <a:xfrm>
            <a:off x="6172200" y="5892840"/>
            <a:ext cx="1658880" cy="62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7823880" y="6150240"/>
            <a:ext cx="125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n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2254320" y="833292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3204360" y="597276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5276880" y="6435720"/>
            <a:ext cx="2139840" cy="37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Rectangle 13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veryone is differ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It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 important to remember that everyone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 body is different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ze, shape, and colour of body parts vary from person to person.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e diagrams shown here do not represent everyone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 bodies including those who haven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 reached puberty, with certain disabilities, or some who are intersex or transgendered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Line 15"/>
          <p:cNvSpPr/>
          <p:nvPr/>
        </p:nvSpPr>
        <p:spPr>
          <a:xfrm flipV="1">
            <a:off x="7581960" y="1392120"/>
            <a:ext cx="2868480" cy="10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Rectangle 16"/>
          <p:cNvSpPr/>
          <p:nvPr/>
        </p:nvSpPr>
        <p:spPr>
          <a:xfrm>
            <a:off x="9630720" y="714960"/>
            <a:ext cx="323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s defere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Line 15"/>
          <p:cNvSpPr/>
          <p:nvPr/>
        </p:nvSpPr>
        <p:spPr>
          <a:xfrm flipV="1">
            <a:off x="7581960" y="1392120"/>
            <a:ext cx="2868480" cy="10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9630720" y="714960"/>
            <a:ext cx="323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s defere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Line 17"/>
          <p:cNvSpPr/>
          <p:nvPr/>
        </p:nvSpPr>
        <p:spPr>
          <a:xfrm>
            <a:off x="2511360" y="2185920"/>
            <a:ext cx="3191040" cy="11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743760" y="1360080"/>
            <a:ext cx="2132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minal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esic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Line 15"/>
          <p:cNvSpPr/>
          <p:nvPr/>
        </p:nvSpPr>
        <p:spPr>
          <a:xfrm flipV="1">
            <a:off x="7581960" y="1392120"/>
            <a:ext cx="2868480" cy="10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Rectangle 16"/>
          <p:cNvSpPr/>
          <p:nvPr/>
        </p:nvSpPr>
        <p:spPr>
          <a:xfrm>
            <a:off x="9630720" y="714960"/>
            <a:ext cx="323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s defere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Line 17"/>
          <p:cNvSpPr/>
          <p:nvPr/>
        </p:nvSpPr>
        <p:spPr>
          <a:xfrm>
            <a:off x="2511360" y="2185920"/>
            <a:ext cx="3191040" cy="11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Rectangle 18"/>
          <p:cNvSpPr/>
          <p:nvPr/>
        </p:nvSpPr>
        <p:spPr>
          <a:xfrm>
            <a:off x="743760" y="1360080"/>
            <a:ext cx="2132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minal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esic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Line 19"/>
          <p:cNvSpPr/>
          <p:nvPr/>
        </p:nvSpPr>
        <p:spPr>
          <a:xfrm flipV="1">
            <a:off x="2403360" y="4803840"/>
            <a:ext cx="2919600" cy="51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Rectangle 20"/>
          <p:cNvSpPr/>
          <p:nvPr/>
        </p:nvSpPr>
        <p:spPr>
          <a:xfrm>
            <a:off x="1181520" y="5007240"/>
            <a:ext cx="125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n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21"/>
          <p:cNvSpPr/>
          <p:nvPr/>
        </p:nvSpPr>
        <p:spPr>
          <a:xfrm>
            <a:off x="3046320" y="7180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"/>
          <p:cNvSpPr/>
          <p:nvPr/>
        </p:nvSpPr>
        <p:spPr>
          <a:xfrm>
            <a:off x="1606680" y="7238880"/>
            <a:ext cx="9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1606680" y="7238880"/>
            <a:ext cx="9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1606680" y="7238880"/>
            <a:ext cx="9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Line 7"/>
          <p:cNvSpPr/>
          <p:nvPr/>
        </p:nvSpPr>
        <p:spPr>
          <a:xfrm flipV="1">
            <a:off x="4923720" y="2472840"/>
            <a:ext cx="122868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6773760" y="2484360"/>
            <a:ext cx="1049400" cy="13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5520240" y="1845000"/>
            <a:ext cx="190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var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Rectangle 11"/>
          <p:cNvSpPr/>
          <p:nvPr/>
        </p:nvSpPr>
        <p:spPr>
          <a:xfrm>
            <a:off x="1606680" y="7238880"/>
            <a:ext cx="9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Line 7"/>
          <p:cNvSpPr/>
          <p:nvPr/>
        </p:nvSpPr>
        <p:spPr>
          <a:xfrm flipV="1">
            <a:off x="4923720" y="2472840"/>
            <a:ext cx="122868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6773760" y="2484360"/>
            <a:ext cx="1049400" cy="13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Rectangle 9"/>
          <p:cNvSpPr/>
          <p:nvPr/>
        </p:nvSpPr>
        <p:spPr>
          <a:xfrm>
            <a:off x="5520240" y="1845000"/>
            <a:ext cx="190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var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597200" y="1693800"/>
            <a:ext cx="12286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Line 11"/>
          <p:cNvSpPr/>
          <p:nvPr/>
        </p:nvSpPr>
        <p:spPr>
          <a:xfrm>
            <a:off x="7113600" y="1658880"/>
            <a:ext cx="1039680" cy="11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Rectangle 12"/>
          <p:cNvSpPr/>
          <p:nvPr/>
        </p:nvSpPr>
        <p:spPr>
          <a:xfrm>
            <a:off x="4512960" y="930600"/>
            <a:ext cx="391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lopian Tub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15"/>
          <p:cNvSpPr/>
          <p:nvPr/>
        </p:nvSpPr>
        <p:spPr>
          <a:xfrm>
            <a:off x="1606680" y="7238880"/>
            <a:ext cx="9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Line 7"/>
          <p:cNvSpPr/>
          <p:nvPr/>
        </p:nvSpPr>
        <p:spPr>
          <a:xfrm flipV="1">
            <a:off x="4923720" y="2472840"/>
            <a:ext cx="122868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6773760" y="2484360"/>
            <a:ext cx="1049400" cy="13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5520240" y="1845000"/>
            <a:ext cx="190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var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Line 10"/>
          <p:cNvSpPr/>
          <p:nvPr/>
        </p:nvSpPr>
        <p:spPr>
          <a:xfrm flipH="1">
            <a:off x="4597200" y="1693800"/>
            <a:ext cx="12286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7113600" y="1658880"/>
            <a:ext cx="1039680" cy="11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Rectangle 12"/>
          <p:cNvSpPr/>
          <p:nvPr/>
        </p:nvSpPr>
        <p:spPr>
          <a:xfrm>
            <a:off x="4512960" y="930600"/>
            <a:ext cx="391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lopian Tub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Line 13"/>
          <p:cNvSpPr/>
          <p:nvPr/>
        </p:nvSpPr>
        <p:spPr>
          <a:xfrm>
            <a:off x="6413400" y="5105520"/>
            <a:ext cx="205596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Rectangle 14"/>
          <p:cNvSpPr/>
          <p:nvPr/>
        </p:nvSpPr>
        <p:spPr>
          <a:xfrm>
            <a:off x="8516160" y="5109120"/>
            <a:ext cx="1549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ervix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Rectangle 16"/>
          <p:cNvSpPr/>
          <p:nvPr/>
        </p:nvSpPr>
        <p:spPr>
          <a:xfrm>
            <a:off x="1606680" y="7238880"/>
            <a:ext cx="9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Image Source: 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MBED THIS VIDE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&lt;iframe width="560" height="315" src="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youtube.com/embed/t9tFk835vjo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" frameborder="0" allowfullscreen&gt;&lt;/iframe&gt;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Exter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4998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73280" indent="-496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** insert pictures of circumcised and uncircumcised penises and label: pubic hair, penis, foreskin, urethra, scrotum, shaft, glans. Mention that both ways are completely normal. Briefly mention reasons a family might have chosen circumcision (culture, religion, fashion at the time)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73280" indent="-496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mind that size and shape variations are norm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rcRect l="13178" t="0" r="13400" b="0"/>
          <a:stretch/>
        </p:blipFill>
        <p:spPr>
          <a:xfrm>
            <a:off x="7175520" y="2882880"/>
            <a:ext cx="4102200" cy="5473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exter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uter part of a girls genitals is called the vulva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279520" y="8332920"/>
            <a:ext cx="84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6919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2254320" y="854856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7108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2254320" y="854856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70372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254320" y="847728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699120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2254320" y="847728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</dc:creator>
  <dc:description/>
  <cp:keywords/>
  <dc:language>en-US</dc:language>
  <cp:lastModifiedBy>Robert Costain</cp:lastModifiedBy>
  <dcterms:modified xsi:type="dcterms:W3CDTF">2014-01-11T21:45:12Z</dcterms:modified>
  <cp:revision>9</cp:revision>
  <dc:subject/>
  <dc:title>The Reproductive System</dc:title>
</cp:coreProperties>
</file>