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5E47-99B1-4659-9E5E-E551C95F385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15E3-E6D0-49AD-B9CB-FA37EC317D2A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9EC8-67FB-42A1-B6FF-F28A8BEFF92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C0A7-17FD-4E2B-8A5F-F282A23F244A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FB7-4B8A-4A77-B6A7-79665B3E1478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1819-2B46-4D42-A560-26A893687EB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959E-15D7-4985-84A0-90016541F50B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572A-D87E-4A6E-A403-9AAB7FC9E62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71F-8370-4A44-93D7-71CBC97BF387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C8C1-07AD-4A6D-9AA8-48F7D57F201F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1E9C-5F90-4C6B-8E61-58E6940A4E8E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774-32C7-4894-9928-AB0DF366D60F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438-B4B0-4DFA-9059-A275E9EF4E30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3CAD-5886-4CA5-8754-27E7EABED61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CFF-DD74-4658-B518-6046F4691393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C43-FC20-4127-A64F-304D104A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E5B-B124-435B-BC82-E7F39393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798-BED3-446E-8A57-13D18F28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624-7688-440A-A1C3-BB6B2E1B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0F78-32D3-4B9C-B7EB-4E639022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FAA2-5B8F-41CE-B225-56C7827B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27F4-5FA9-4C08-9056-7F661AB8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3A15-3D73-4761-BB69-671B11D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9D48-C4C0-4CF9-80A2-3C2E2E6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B6A2-5A77-4906-9D05-3ED8C3E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3F99-5495-42CB-8F9B-2165719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D0F-8013-472F-ADE1-68071F3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5589-E6FC-4536-9AB0-D15BB60F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4C74-862C-440B-8DA8-FC497AB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48D3-EADF-4291-A485-7AEBED8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582F-0264-4B04-A86C-1B8D0687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E20C-F66A-4B9D-A90D-44DB4055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A8F-21BA-48EE-AC6B-E3569B3A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9EE-9D3C-48EE-B181-4A7F473C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571-A01D-4A6E-B8D7-92BA17CD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7FB-714D-4CF8-A9A5-B5FF46B4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023-D3C6-467A-B999-A850106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D6D-9D54-4F2F-88CB-88A26FB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495-C1E7-4C43-8B1A-41AFCF5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8A3-5C57-45A9-BC74-6DBC23F764AC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399D-8437-4DCB-B8FF-4BA85A966DDA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creativecommons.org/licenses/by-nc-sa/3.0/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hyperlink" Target="http://creativecommons.org/licenses/by-nc-sa/3.0/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creativecommons.org/licenses/by-nc-sa/3.0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creativecommons.org/licenses/by-nc-sa/3.0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embed/D7IxGGfpSWk?rel=0" TargetMode="External"/><Relationship Id="rId2" Type="http://schemas.openxmlformats.org/officeDocument/2006/relationships/hyperlink" Target="http://www.youtube.com/embed/u9rSN05Pi94?rel=0" TargetMode="External"/><Relationship Id="rId3" Type="http://schemas.openxmlformats.org/officeDocument/2006/relationships/hyperlink" Target="http://www.youtube.com/embed/_myD9eXv20U?rel=0" TargetMode="External"/><Relationship Id="rId4" Type="http://schemas.openxmlformats.org/officeDocument/2006/relationships/hyperlink" Target="http://www.youtube.com/embed/lbibStUXnj8?rel=0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creativecommons.org/licenses/by-nc-sa/3.0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creativecommons.org/licenses/by-nc-sa/3.0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creativecommons.org/licenses/by-nc-sa/3.0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creativecommons.org/licenses/by-nc-sa/3.0/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creativecommons.org/licenses/by-nc-sa/3.0/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6.jpeg"/><Relationship Id="rId11" Type="http://schemas.openxmlformats.org/officeDocument/2006/relationships/hyperlink" Target="http://creativecommons.org/licenses/by/2.0/" TargetMode="External"/><Relationship Id="rId12" Type="http://schemas.openxmlformats.org/officeDocument/2006/relationships/hyperlink" Target="http://commons.wikimedia.org/wiki/File:Jim_Jones_brochure_of_Peoples_Temple.jpg" TargetMode="External"/><Relationship Id="rId13" Type="http://schemas.openxmlformats.org/officeDocument/2006/relationships/hyperlink" Target="http://creativecommons.org/licenses/by-nc-sa/3.0/" TargetMode="External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ommons.wikimedia.org/wiki/File:Guyana_map.gif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hyperlink" Target="http://commons.wikimedia.org/wiki/File:South_america.jpg" TargetMode="External"/><Relationship Id="rId6" Type="http://schemas.openxmlformats.org/officeDocument/2006/relationships/hyperlink" Target="http://creativecommons.org/licenses/by-nc-sa/3.0/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hyperlink" Target="http://creativecommons.org/licenses/by-nc-sa/3.0/" TargetMode="External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36484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ULTS 101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How to Be a Critical Consumer of Knowledge and Information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1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DEEN LOGO_25%.jpg"/>
          <p:cNvPicPr/>
          <p:nvPr/>
        </p:nvPicPr>
        <p:blipFill>
          <a:blip r:embed="rId2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U.S. Congressman Leo Ryan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46808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 U.S. congressman, Leo Ryan, visited Jonestown in 1978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t first things appeared OK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Then someone passed him a note saying they wanted to leave desperately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The next day at the airport, as they were getting ready to leave, five people were shot down including Ryan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44520" y="1468080"/>
            <a:ext cx="36118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Jones did not want members leaving his community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or did he want the congressman to divulge any information about his cult to the press back home in America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7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DEEN LOGO_25%.jpg"/>
          <p:cNvPicPr/>
          <p:nvPr/>
        </p:nvPicPr>
        <p:blipFill>
          <a:blip r:embed="rId8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e End: Poisoned Punch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Because of the incident at the airport, Jones told member they were not safe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He told them that the only solution was to commit a revolutionary act: suicide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In a hurry, they filled large kettles with Kool-Aid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844520" y="1760040"/>
            <a:ext cx="36118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They added cyanide and valium, a lethal concoction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909 people died, including 303 children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Only a handful survived by hiding under beds or seeking refuge in the surrounding jungle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8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DEEN LOGO_25%.jpg"/>
          <p:cNvPicPr/>
          <p:nvPr/>
        </p:nvPicPr>
        <p:blipFill>
          <a:blip r:embed="rId9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y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60040"/>
            <a:ext cx="763128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Jones was afraid the truth would come ou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He convinced his victims that they would be tortured by outsiders (Americans) if they survived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Members of the Peoples Temple were manipulated and brainwashed by Jones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4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DEEN LOGO_25%.jpg"/>
          <p:cNvPicPr/>
          <p:nvPr/>
        </p:nvPicPr>
        <p:blipFill>
          <a:blip r:embed="rId5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ff"/>
                </a:solidFill>
                <a:latin typeface="Calisto MT"/>
              </a:rPr>
              <a:t>Reflection Questions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685800" y="1760400"/>
            <a:ext cx="777096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Why were Jim Jones’ followers so easy to manipul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Why did some choose to hide rather than participate in the “revolutionary act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an this still happen today? Will it happen again? Why or why no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Do cults still ex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5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DEEN LOGO_25%.jpg"/>
          <p:cNvPicPr/>
          <p:nvPr/>
        </p:nvPicPr>
        <p:blipFill>
          <a:blip r:embed="rId6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PBS documentary:</a:t>
            </a:r>
            <a:br>
              <a:rPr sz="4000"/>
            </a:br>
            <a:r>
              <a:rPr b="0" i="1" lang="en-US" sz="3100" spc="-1" strike="noStrike">
                <a:solidFill>
                  <a:srgbClr val="ffffff"/>
                </a:solidFill>
                <a:latin typeface="Calisto MT"/>
              </a:rPr>
              <a:t>Jonestown: The Life and Death of Peoples Temple</a:t>
            </a:r>
            <a:endParaRPr b="0" lang="en-US" sz="3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505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1: 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Calisto MT"/>
                <a:hlinkClick r:id="rId1"/>
              </a:rPr>
              <a:t>http://www.youtube.com/embed/D7IxGGfpSWk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2: 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Calisto MT"/>
                <a:hlinkClick r:id="rId2"/>
              </a:rPr>
              <a:t>http://www.youtube.com/embed/u9rSN05Pi94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3: 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Calisto MT"/>
                <a:hlinkClick r:id="rId3"/>
              </a:rPr>
              <a:t>http://www.youtube.com/embed/_myD9eXv20U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4: </a:t>
            </a:r>
            <a:r>
              <a:rPr b="0" i="1" lang="en-US" sz="1600" spc="-1" strike="noStrike" u="sng">
                <a:solidFill>
                  <a:srgbClr val="00b050"/>
                </a:solidFill>
                <a:uFillTx/>
                <a:latin typeface="Calisto MT"/>
                <a:hlinkClick r:id="rId4"/>
              </a:rPr>
              <a:t>http://www.youtube.com/embed/lbibStUXnj8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5: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http://www.youtube.com/embed/ieLkcBEJ1h8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6: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http://www.youtube.com/embed/hZjfWuTHe0M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7: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http://www.youtube.com/embed/BzAoktGxDNo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8: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http://www.youtube.com/embed/vkzw5YUGpRs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  <a:p>
            <a:pPr marL="10483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sto MT"/>
              </a:rPr>
              <a:t>Part 9: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http://www.youtube.com/embed/pLZDaE7XfLM?rel=0</a:t>
            </a:r>
            <a:endParaRPr b="0" lang="en-US" sz="1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ffffff"/>
                </a:solidFill>
                <a:uFillTx/>
                <a:latin typeface="Calibri"/>
                <a:ea typeface="Cambria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DEEN LOGO_25%.jpg"/>
          <p:cNvPicPr/>
          <p:nvPr/>
        </p:nvPicPr>
        <p:blipFill>
          <a:blip r:embed="rId5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9200"/>
            <a:ext cx="7770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 will be responsible for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58840" indent="-36036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rming your own opini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058840" indent="-36036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nking criticall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058840" indent="-36036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Reflecting on the ideas presented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058840" indent="-36036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5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DEEN LOGO_25%.jpg"/>
          <p:cNvPicPr/>
          <p:nvPr/>
        </p:nvPicPr>
        <p:blipFill>
          <a:blip r:embed="rId6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9200"/>
            <a:ext cx="7770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ults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635120"/>
            <a:ext cx="777096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 word </a:t>
            </a:r>
            <a:r>
              <a:rPr b="0" i="1" lang="en-US" sz="2200" spc="-1" strike="noStrike">
                <a:solidFill>
                  <a:srgbClr val="ffffff"/>
                </a:solidFill>
                <a:latin typeface="Calisto MT"/>
              </a:rPr>
              <a:t>cult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usually refers to a new religious movement or  group whose beliefs or practices are considered abnormal or bizarre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ults generally have a charismatic leader who uses techniques of manipulation and brainwashing to persuade follower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ult leaders often target vulnerable potential follower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persuade them to leave their friends/family and sink their life savings into the cult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5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DEEN LOGO_25%.jpg"/>
          <p:cNvPicPr/>
          <p:nvPr/>
        </p:nvPicPr>
        <p:blipFill>
          <a:blip r:embed="rId6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39200"/>
            <a:ext cx="7770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The Psychology Behind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Mind Control</a:t>
            </a:r>
            <a:endParaRPr b="0" lang="en-US" sz="43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alisto MT"/>
              </a:rPr>
              <a:t>Why are cult leaders able to manipulate their followers?</a:t>
            </a:r>
            <a:endParaRPr b="0" lang="en-US" sz="26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Victims are often in physically or emotionally distressing situation (i.e. ex-convicts, former drug addicts, etc.)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are promised unconditional love, acceptance and attention from their leader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receive a new identity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are isolated from friends/family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5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DEEN LOGO_25%.jpg"/>
          <p:cNvPicPr/>
          <p:nvPr/>
        </p:nvPicPr>
        <p:blipFill>
          <a:blip r:embed="rId6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09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Heaven’s Gat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602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merican UFO religion based in San Diego, California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Led by Marshall Applewhite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rch 26, 1997: Police discovered the bodies of 39 members of the group who had committed suicide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wanted to reach an alien space craft which they believed was following the Comet Hale-Bopp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eached about salvation and the apocalypse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plewhite believed he was directly related to Jesus meaning he was an “Evolutionary Kingdom Level Above Human”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7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DEEN LOGO_25%.jpg"/>
          <p:cNvPicPr/>
          <p:nvPr/>
        </p:nvPicPr>
        <p:blipFill>
          <a:blip r:embed="rId8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Belief System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55052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aven’s Gate members believed that the planet Earth was about to be recycled and the only chance to survive would be to leave it immediatel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believed to do this they must “leave” their human bodies, which they called “vessels.”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sto MT"/>
              </a:rPr>
              <a:t>Discussi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hat are your ethical values regarding this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hy were these members so easily manipulated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6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DEEN LOGO_25%.jpg"/>
          <p:cNvPicPr/>
          <p:nvPr/>
        </p:nvPicPr>
        <p:blipFill>
          <a:blip r:embed="rId7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e Jonestown Massacr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246320"/>
            <a:ext cx="361152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Jim Jones founded the Peoples Temple in Indiana in 1955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cused on helping people in need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oved to Redwood Valley California in 1965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44520" y="1248840"/>
            <a:ext cx="36118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mmunist society 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veryone would live together in harmony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Worked for the common good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veryone was equa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o one was better off than you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Jones dreamed of establishing a compound under his contro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18" name="Picture 4" descr="Jim Jones.jpg"/>
          <p:cNvPicPr/>
          <p:nvPr/>
        </p:nvPicPr>
        <p:blipFill>
          <a:blip r:embed="rId10"/>
          <a:srcRect l="2624" t="14214" r="3661" b="0"/>
          <a:stretch/>
        </p:blipFill>
        <p:spPr>
          <a:xfrm>
            <a:off x="1239840" y="3649680"/>
            <a:ext cx="249876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Content Placeholder 2"/>
          <p:cNvSpPr/>
          <p:nvPr/>
        </p:nvSpPr>
        <p:spPr>
          <a:xfrm>
            <a:off x="3960720" y="5472000"/>
            <a:ext cx="4496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</a:rPr>
              <a:t>Jim Jones brochure of the Peoples Temple by the Jonestown Institute, CC BY 2.0 (</a:t>
            </a: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hlinkClick r:id="rId11"/>
              </a:rPr>
              <a:t>http://creativecommons.org/licenses/by/2.0/</a:t>
            </a:r>
            <a:r>
              <a:rPr b="0" lang="en-CA" sz="900" spc="-1" strike="noStrike">
                <a:solidFill>
                  <a:srgbClr val="ffffff"/>
                </a:solidFill>
                <a:latin typeface="Calibri"/>
              </a:rPr>
              <a:t>), Wikimedia, last modified April 6, 2012, </a:t>
            </a: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hlinkClick r:id="rId12"/>
              </a:rPr>
              <a:t>http://commons.wikimedia.org/wiki/File:Jim_Jones_brochure_of_Peoples_Temple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13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EEN LOGO_25%.jpg"/>
          <p:cNvPicPr/>
          <p:nvPr/>
        </p:nvPicPr>
        <p:blipFill>
          <a:blip r:embed="rId14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nestown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9240" y="1273320"/>
            <a:ext cx="6934320" cy="11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y settled in Guyana (a remote location in South America) in 1974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1565280" y="5451480"/>
            <a:ext cx="3133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</a:rPr>
              <a:t>Guyana map by Directorate of Intelligence, CIA, public domain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</a:rPr>
              <a:t>Wikimedia Commons, last modified August 19, 2013, </a:t>
            </a: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hlinkClick r:id="rId2"/>
              </a:rPr>
              <a:t>http://commons.wikimedia.org/wiki/File:Guyana_map.gi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File:Guyana-CIA WFB Map.png"/>
          <p:cNvPicPr/>
          <p:nvPr/>
        </p:nvPicPr>
        <p:blipFill>
          <a:blip r:embed="rId3"/>
          <a:stretch/>
        </p:blipFill>
        <p:spPr>
          <a:xfrm>
            <a:off x="1565280" y="2087640"/>
            <a:ext cx="3133800" cy="336240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4994280" y="2089080"/>
            <a:ext cx="2614680" cy="3362400"/>
            <a:chOff x="4994280" y="2089080"/>
            <a:chExt cx="2614680" cy="3362400"/>
          </a:xfrm>
        </p:grpSpPr>
        <p:pic>
          <p:nvPicPr>
            <p:cNvPr id="127" name="Picture 4" descr="http://upload.wikimedia.org/wikipedia/commons/0/04/South_america.jpg"/>
            <p:cNvPicPr/>
            <p:nvPr/>
          </p:nvPicPr>
          <p:blipFill>
            <a:blip r:embed="rId4"/>
            <a:stretch/>
          </p:blipFill>
          <p:spPr>
            <a:xfrm>
              <a:off x="4994280" y="2089080"/>
              <a:ext cx="26146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Oval 9"/>
            <p:cNvSpPr/>
            <p:nvPr/>
          </p:nvSpPr>
          <p:spPr>
            <a:xfrm>
              <a:off x="6218280" y="2317680"/>
              <a:ext cx="287280" cy="49032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miter/>
            </a:ln>
            <a:effectLst>
              <a:outerShdw dist="50933" dir="2095540" blurRad="0" rotWithShape="0">
                <a:srgbClr val="000000">
                  <a:alpha val="5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Content Placeholder 2"/>
          <p:cNvSpPr/>
          <p:nvPr/>
        </p:nvSpPr>
        <p:spPr>
          <a:xfrm>
            <a:off x="4751280" y="5451480"/>
            <a:ext cx="3173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</a:rPr>
              <a:t>South America by Directorate of Intelligence, CIA, public domain, Wikimedia Commons, last modified January 9, 2005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hlinkClick r:id="rId5"/>
              </a:rPr>
              <a:t>http://commons.wikimedia.org/wiki/File:South_america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6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DEEN LOGO_25%.jpg"/>
          <p:cNvPicPr/>
          <p:nvPr/>
        </p:nvPicPr>
        <p:blipFill>
          <a:blip r:embed="rId7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Things went horribly wrong…</a:t>
            </a:r>
            <a:endParaRPr b="0" lang="en-US" sz="43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5044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Jonestown was supposed to be a utopia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There were not enough cabins for housing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Overcrowding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gregated by gender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arried couples were forced to live apart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o one was allowed to leave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04840" y="1504440"/>
            <a:ext cx="36118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Heat and humidity was stifling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22200" indent="-322200">
              <a:spcBef>
                <a:spcPts val="2001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embers were forced to work long days in the heat (11 hours/day)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22200" indent="-322200">
              <a:spcBef>
                <a:spcPts val="2001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Jones talked endlessly on a loudspeaker that broadcast through the compound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22200" indent="-322200">
              <a:spcBef>
                <a:spcPts val="2001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mpound was surrounded by miles and miles of jungle and armed guards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Footer Placeholder 8"/>
          <p:cNvSpPr/>
          <p:nvPr/>
        </p:nvSpPr>
        <p:spPr>
          <a:xfrm>
            <a:off x="900000" y="602136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alibri"/>
              </a:rPr>
              <a:t>DEEN LES Resource Bank Project 2013-20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ff"/>
                </a:solidFill>
                <a:latin typeface="Calibri"/>
                <a:ea typeface="Cambria"/>
              </a:rPr>
              <a:t>Released under a CC BY-NC-SA 3.0 lic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 u="sng">
                <a:solidFill>
                  <a:srgbClr val="00b050"/>
                </a:solidFill>
                <a:uFillTx/>
                <a:latin typeface="Calibri"/>
                <a:ea typeface="Cambria"/>
                <a:hlinkClick r:id="rId11"/>
              </a:rPr>
              <a:t>http://creativecommons.org/licenses/by-nc-sa/3.0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DEEN LOGO_25%.jpg"/>
          <p:cNvPicPr/>
          <p:nvPr/>
        </p:nvPicPr>
        <p:blipFill>
          <a:blip r:embed="rId12"/>
          <a:stretch/>
        </p:blipFill>
        <p:spPr>
          <a:xfrm>
            <a:off x="7373880" y="6021360"/>
            <a:ext cx="7682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5:05:56Z</dcterms:created>
  <dc:creator>Alexandra Welik</dc:creator>
  <dc:description/>
  <dc:language>en-US</dc:language>
  <cp:lastModifiedBy>Avis Anderson</cp:lastModifiedBy>
  <dcterms:modified xsi:type="dcterms:W3CDTF">2014-01-13T19:35:52Z</dcterms:modified>
  <cp:revision>107</cp:revision>
  <dc:subject/>
  <dc:title>Conspiracy 101</dc:title>
</cp:coreProperties>
</file>